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268-55BE-4601-8176-A3688721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BDE-D026-455B-9E58-9E31C39B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597-7D75-4AC4-9F6A-CCDF3E52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A52-4342-4BED-BA87-3F73A18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84B69-4B05-4496-B547-BB8B3DE9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10D9F-769A-4A6B-89A0-CBC2CAC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41A05-EB08-418B-9273-A3A5616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93B6D-4C85-42CC-A897-63B9824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50627-4DA2-48ED-8594-3879BCF3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0BD7-02FB-4D6A-AEC4-308CF39D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88A5E-50CF-484A-BDA2-D88B9A3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FDF-E43D-45D7-BBD8-E238671A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10CCC-14E9-4973-A25E-D27B569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0BCA-047A-4C77-9B1A-94DE956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D2F9-45A8-4DFE-A2CE-019446C7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362B0-9D72-47D8-9E3A-5D94B7F1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38D81-08AA-4DFF-B1D1-A656D2AB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858-9481-438E-AEA8-942B4C1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008-B014-4667-8B11-D50ED9B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310-30E0-49EB-923B-B2EC85F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37C-503D-4DB9-9A18-E4F8C02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B94-643B-4E2C-B4A5-B9111BE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A84-3768-4A38-9508-F5E62B6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D94-0DB8-47DE-8AAD-0EE80FF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C933-5369-452D-B903-7AE1442E9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D55E-3A58-4985-BB01-2A80B2CF3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15328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pener: Draw a triangle (any size) and be prepared to describe 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374840" y="440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20" y="12229"/>
                </a:moveTo>
                <a:lnTo>
                  <a:pt x="3820" y="12229"/>
                </a:lnTo>
                <a:lnTo>
                  <a:pt x="3820" y="12229"/>
                </a:lnTo>
              </a:path>
              <a:path w="1" h="1">
                <a:moveTo>
                  <a:pt x="3820" y="12229"/>
                </a:moveTo>
                <a:lnTo>
                  <a:pt x="3820" y="1222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4402080"/>
            <a:ext cx="731880" cy="411120"/>
          </a:xfrm>
          <a:custGeom>
            <a:avLst/>
            <a:gdLst/>
            <a:ahLst/>
            <a:rect l="l" t="t" r="r" b="b"/>
            <a:pathLst>
              <a:path w="2035" h="1142">
                <a:moveTo>
                  <a:pt x="1860" y="12452"/>
                </a:moveTo>
                <a:cubicBezTo>
                  <a:pt x="1946" y="12509"/>
                  <a:pt x="2078" y="12526"/>
                  <a:pt x="2183" y="12502"/>
                </a:cubicBezTo>
                <a:cubicBezTo>
                  <a:pt x="2369" y="12459"/>
                  <a:pt x="2390" y="12387"/>
                  <a:pt x="2356" y="12229"/>
                </a:cubicBezTo>
                <a:cubicBezTo>
                  <a:pt x="2133" y="12242"/>
                  <a:pt x="2003" y="12284"/>
                  <a:pt x="1935" y="12526"/>
                </a:cubicBezTo>
                <a:cubicBezTo>
                  <a:pt x="1865" y="12778"/>
                  <a:pt x="2149" y="12710"/>
                  <a:pt x="2282" y="12700"/>
                </a:cubicBezTo>
              </a:path>
              <a:path w="2035" h="1142">
                <a:moveTo>
                  <a:pt x="2828" y="12303"/>
                </a:moveTo>
                <a:cubicBezTo>
                  <a:pt x="2684" y="12291"/>
                  <a:pt x="2567" y="12361"/>
                  <a:pt x="2480" y="12502"/>
                </a:cubicBezTo>
                <a:cubicBezTo>
                  <a:pt x="2434" y="12619"/>
                  <a:pt x="2414" y="12653"/>
                  <a:pt x="2480" y="12725"/>
                </a:cubicBezTo>
                <a:cubicBezTo>
                  <a:pt x="2715" y="12737"/>
                  <a:pt x="2786" y="12682"/>
                  <a:pt x="2877" y="12452"/>
                </a:cubicBezTo>
                <a:cubicBezTo>
                  <a:pt x="2877" y="12427"/>
                  <a:pt x="2877" y="12419"/>
                  <a:pt x="2877" y="12452"/>
                </a:cubicBezTo>
                <a:cubicBezTo>
                  <a:pt x="2848" y="12698"/>
                  <a:pt x="2738" y="12926"/>
                  <a:pt x="2704" y="13171"/>
                </a:cubicBezTo>
                <a:cubicBezTo>
                  <a:pt x="2704" y="13221"/>
                  <a:pt x="2704" y="13270"/>
                  <a:pt x="2704" y="13320"/>
                </a:cubicBezTo>
                <a:cubicBezTo>
                  <a:pt x="2852" y="13387"/>
                  <a:pt x="2963" y="13186"/>
                  <a:pt x="3001" y="13022"/>
                </a:cubicBezTo>
                <a:cubicBezTo>
                  <a:pt x="3060" y="12766"/>
                  <a:pt x="2866" y="12789"/>
                  <a:pt x="2729" y="12700"/>
                </a:cubicBezTo>
                <a:cubicBezTo>
                  <a:pt x="2729" y="12692"/>
                  <a:pt x="2729" y="12683"/>
                  <a:pt x="2729" y="12675"/>
                </a:cubicBezTo>
              </a:path>
              <a:path w="2035" h="1142">
                <a:moveTo>
                  <a:pt x="3076" y="12378"/>
                </a:moveTo>
                <a:cubicBezTo>
                  <a:pt x="3076" y="12437"/>
                  <a:pt x="3047" y="12635"/>
                  <a:pt x="3150" y="12650"/>
                </a:cubicBezTo>
                <a:cubicBezTo>
                  <a:pt x="3283" y="12669"/>
                  <a:pt x="3388" y="12507"/>
                  <a:pt x="3423" y="12402"/>
                </a:cubicBezTo>
                <a:cubicBezTo>
                  <a:pt x="3423" y="12394"/>
                  <a:pt x="3423" y="12386"/>
                  <a:pt x="3423" y="12378"/>
                </a:cubicBezTo>
                <a:cubicBezTo>
                  <a:pt x="3423" y="12470"/>
                  <a:pt x="3408" y="12546"/>
                  <a:pt x="3473" y="12626"/>
                </a:cubicBezTo>
                <a:cubicBezTo>
                  <a:pt x="3515" y="12678"/>
                  <a:pt x="3566" y="12692"/>
                  <a:pt x="3621" y="12700"/>
                </a:cubicBezTo>
              </a:path>
              <a:path w="2035" h="1142">
                <a:moveTo>
                  <a:pt x="3870" y="12402"/>
                </a:moveTo>
                <a:cubicBezTo>
                  <a:pt x="3870" y="12470"/>
                  <a:pt x="3864" y="12753"/>
                  <a:pt x="3894" y="12700"/>
                </a:cubicBezTo>
                <a:cubicBezTo>
                  <a:pt x="3894" y="12692"/>
                  <a:pt x="3894" y="12683"/>
                  <a:pt x="3894" y="126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54120" y="4375080"/>
            <a:ext cx="1303560" cy="268200"/>
          </a:xfrm>
          <a:custGeom>
            <a:avLst/>
            <a:gdLst/>
            <a:ahLst/>
            <a:rect l="l" t="t" r="r" b="b"/>
            <a:pathLst>
              <a:path w="3623" h="745">
                <a:moveTo>
                  <a:pt x="4316" y="12179"/>
                </a:moveTo>
                <a:cubicBezTo>
                  <a:pt x="4316" y="12283"/>
                  <a:pt x="4264" y="12773"/>
                  <a:pt x="4341" y="12799"/>
                </a:cubicBezTo>
              </a:path>
              <a:path w="3623" h="745">
                <a:moveTo>
                  <a:pt x="4911" y="12626"/>
                </a:moveTo>
                <a:cubicBezTo>
                  <a:pt x="4954" y="12568"/>
                  <a:pt x="4946" y="12511"/>
                  <a:pt x="4887" y="12452"/>
                </a:cubicBezTo>
                <a:cubicBezTo>
                  <a:pt x="4779" y="12344"/>
                  <a:pt x="4631" y="12536"/>
                  <a:pt x="4614" y="12626"/>
                </a:cubicBezTo>
                <a:cubicBezTo>
                  <a:pt x="4576" y="12832"/>
                  <a:pt x="4839" y="12775"/>
                  <a:pt x="4911" y="12675"/>
                </a:cubicBezTo>
                <a:cubicBezTo>
                  <a:pt x="4930" y="12618"/>
                  <a:pt x="4939" y="12575"/>
                  <a:pt x="4936" y="12626"/>
                </a:cubicBezTo>
                <a:cubicBezTo>
                  <a:pt x="4973" y="12753"/>
                  <a:pt x="5038" y="12861"/>
                  <a:pt x="5184" y="12750"/>
                </a:cubicBezTo>
                <a:cubicBezTo>
                  <a:pt x="5217" y="12709"/>
                  <a:pt x="5250" y="12667"/>
                  <a:pt x="5283" y="12626"/>
                </a:cubicBezTo>
              </a:path>
              <a:path w="3623" h="745">
                <a:moveTo>
                  <a:pt x="5308" y="12154"/>
                </a:moveTo>
                <a:cubicBezTo>
                  <a:pt x="5318" y="12386"/>
                  <a:pt x="5333" y="12615"/>
                  <a:pt x="5333" y="12849"/>
                </a:cubicBezTo>
                <a:cubicBezTo>
                  <a:pt x="5333" y="12865"/>
                  <a:pt x="5333" y="12882"/>
                  <a:pt x="5333" y="12898"/>
                </a:cubicBezTo>
              </a:path>
              <a:path w="3623" h="745">
                <a:moveTo>
                  <a:pt x="5135" y="12502"/>
                </a:moveTo>
                <a:cubicBezTo>
                  <a:pt x="5300" y="12502"/>
                  <a:pt x="5466" y="12502"/>
                  <a:pt x="5631" y="12502"/>
                </a:cubicBezTo>
              </a:path>
              <a:path w="3623" h="745">
                <a:moveTo>
                  <a:pt x="5804" y="12601"/>
                </a:moveTo>
                <a:cubicBezTo>
                  <a:pt x="5903" y="12601"/>
                  <a:pt x="6003" y="12601"/>
                  <a:pt x="6102" y="12601"/>
                </a:cubicBezTo>
                <a:cubicBezTo>
                  <a:pt x="6024" y="12534"/>
                  <a:pt x="5872" y="12382"/>
                  <a:pt x="5779" y="12526"/>
                </a:cubicBezTo>
                <a:cubicBezTo>
                  <a:pt x="5699" y="12651"/>
                  <a:pt x="5732" y="12911"/>
                  <a:pt x="5928" y="12898"/>
                </a:cubicBezTo>
                <a:cubicBezTo>
                  <a:pt x="6096" y="12887"/>
                  <a:pt x="6178" y="12762"/>
                  <a:pt x="6276" y="12650"/>
                </a:cubicBezTo>
              </a:path>
              <a:path w="3623" h="745">
                <a:moveTo>
                  <a:pt x="6300" y="12576"/>
                </a:moveTo>
                <a:cubicBezTo>
                  <a:pt x="6332" y="12640"/>
                  <a:pt x="6344" y="12671"/>
                  <a:pt x="6350" y="12725"/>
                </a:cubicBezTo>
                <a:cubicBezTo>
                  <a:pt x="6371" y="12562"/>
                  <a:pt x="6419" y="12454"/>
                  <a:pt x="6598" y="12402"/>
                </a:cubicBezTo>
                <a:cubicBezTo>
                  <a:pt x="6664" y="12402"/>
                  <a:pt x="6681" y="12402"/>
                  <a:pt x="6722" y="12402"/>
                </a:cubicBezTo>
              </a:path>
              <a:path w="3623" h="745">
                <a:moveTo>
                  <a:pt x="7119" y="12675"/>
                </a:moveTo>
                <a:cubicBezTo>
                  <a:pt x="7184" y="12633"/>
                  <a:pt x="7137" y="12552"/>
                  <a:pt x="7094" y="12502"/>
                </a:cubicBezTo>
                <a:cubicBezTo>
                  <a:pt x="6973" y="12502"/>
                  <a:pt x="6728" y="12612"/>
                  <a:pt x="6846" y="12799"/>
                </a:cubicBezTo>
                <a:cubicBezTo>
                  <a:pt x="6942" y="12951"/>
                  <a:pt x="7086" y="12769"/>
                  <a:pt x="7144" y="12700"/>
                </a:cubicBezTo>
                <a:cubicBezTo>
                  <a:pt x="7144" y="12824"/>
                  <a:pt x="7246" y="12822"/>
                  <a:pt x="7342" y="12799"/>
                </a:cubicBezTo>
                <a:cubicBezTo>
                  <a:pt x="7481" y="12744"/>
                  <a:pt x="7527" y="12713"/>
                  <a:pt x="7516" y="12576"/>
                </a:cubicBezTo>
              </a:path>
              <a:path w="3623" h="745">
                <a:moveTo>
                  <a:pt x="7491" y="12154"/>
                </a:moveTo>
                <a:cubicBezTo>
                  <a:pt x="7549" y="12328"/>
                  <a:pt x="7579" y="12491"/>
                  <a:pt x="7590" y="12675"/>
                </a:cubicBezTo>
                <a:cubicBezTo>
                  <a:pt x="7602" y="12875"/>
                  <a:pt x="7627" y="12848"/>
                  <a:pt x="7813" y="12799"/>
                </a:cubicBezTo>
                <a:cubicBezTo>
                  <a:pt x="7887" y="12779"/>
                  <a:pt x="7924" y="12748"/>
                  <a:pt x="7938" y="127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040" y="4786200"/>
            <a:ext cx="1258920" cy="492120"/>
          </a:xfrm>
          <a:custGeom>
            <a:avLst/>
            <a:gdLst/>
            <a:ahLst/>
            <a:rect l="l" t="t" r="r" b="b"/>
            <a:pathLst>
              <a:path w="3498" h="1366">
                <a:moveTo>
                  <a:pt x="2158" y="13767"/>
                </a:moveTo>
                <a:cubicBezTo>
                  <a:pt x="2158" y="13664"/>
                  <a:pt x="2185" y="13623"/>
                  <a:pt x="2084" y="13568"/>
                </a:cubicBezTo>
                <a:cubicBezTo>
                  <a:pt x="1878" y="13456"/>
                  <a:pt x="1720" y="13800"/>
                  <a:pt x="1687" y="13940"/>
                </a:cubicBezTo>
                <a:cubicBezTo>
                  <a:pt x="1687" y="14097"/>
                  <a:pt x="1674" y="14145"/>
                  <a:pt x="1786" y="14188"/>
                </a:cubicBezTo>
                <a:cubicBezTo>
                  <a:pt x="1998" y="14146"/>
                  <a:pt x="2106" y="14052"/>
                  <a:pt x="2158" y="13816"/>
                </a:cubicBezTo>
                <a:cubicBezTo>
                  <a:pt x="2169" y="13767"/>
                  <a:pt x="2158" y="13667"/>
                  <a:pt x="2158" y="13717"/>
                </a:cubicBezTo>
                <a:cubicBezTo>
                  <a:pt x="2162" y="13785"/>
                  <a:pt x="2152" y="14032"/>
                  <a:pt x="2208" y="14039"/>
                </a:cubicBezTo>
                <a:cubicBezTo>
                  <a:pt x="2241" y="14039"/>
                  <a:pt x="2274" y="14039"/>
                  <a:pt x="2307" y="14039"/>
                </a:cubicBezTo>
              </a:path>
              <a:path w="3498" h="1366">
                <a:moveTo>
                  <a:pt x="2480" y="13667"/>
                </a:moveTo>
                <a:cubicBezTo>
                  <a:pt x="2480" y="13812"/>
                  <a:pt x="2475" y="13946"/>
                  <a:pt x="2456" y="14089"/>
                </a:cubicBezTo>
                <a:cubicBezTo>
                  <a:pt x="2456" y="14172"/>
                  <a:pt x="2449" y="14023"/>
                  <a:pt x="2456" y="13940"/>
                </a:cubicBezTo>
                <a:cubicBezTo>
                  <a:pt x="2477" y="13711"/>
                  <a:pt x="2513" y="13607"/>
                  <a:pt x="2704" y="13494"/>
                </a:cubicBezTo>
                <a:cubicBezTo>
                  <a:pt x="2856" y="13646"/>
                  <a:pt x="2926" y="13792"/>
                  <a:pt x="2952" y="14015"/>
                </a:cubicBezTo>
                <a:cubicBezTo>
                  <a:pt x="2952" y="14097"/>
                  <a:pt x="2952" y="14114"/>
                  <a:pt x="2952" y="14163"/>
                </a:cubicBezTo>
              </a:path>
              <a:path w="3498" h="1366">
                <a:moveTo>
                  <a:pt x="3547" y="13767"/>
                </a:moveTo>
                <a:cubicBezTo>
                  <a:pt x="3506" y="13655"/>
                  <a:pt x="3531" y="13664"/>
                  <a:pt x="3423" y="13643"/>
                </a:cubicBezTo>
                <a:cubicBezTo>
                  <a:pt x="3362" y="13715"/>
                  <a:pt x="3043" y="14080"/>
                  <a:pt x="3274" y="14163"/>
                </a:cubicBezTo>
                <a:cubicBezTo>
                  <a:pt x="3458" y="14229"/>
                  <a:pt x="3572" y="13957"/>
                  <a:pt x="3597" y="13841"/>
                </a:cubicBezTo>
                <a:cubicBezTo>
                  <a:pt x="3597" y="13833"/>
                  <a:pt x="3597" y="13824"/>
                  <a:pt x="3597" y="13816"/>
                </a:cubicBezTo>
                <a:cubicBezTo>
                  <a:pt x="3648" y="14010"/>
                  <a:pt x="3619" y="14253"/>
                  <a:pt x="3522" y="14436"/>
                </a:cubicBezTo>
                <a:cubicBezTo>
                  <a:pt x="3449" y="14573"/>
                  <a:pt x="2973" y="14836"/>
                  <a:pt x="2952" y="14536"/>
                </a:cubicBezTo>
                <a:cubicBezTo>
                  <a:pt x="2968" y="14486"/>
                  <a:pt x="2985" y="14437"/>
                  <a:pt x="3001" y="14387"/>
                </a:cubicBezTo>
              </a:path>
              <a:path w="3498" h="1366">
                <a:moveTo>
                  <a:pt x="3994" y="13295"/>
                </a:moveTo>
                <a:cubicBezTo>
                  <a:pt x="4020" y="13507"/>
                  <a:pt x="4034" y="13726"/>
                  <a:pt x="4018" y="13940"/>
                </a:cubicBezTo>
                <a:cubicBezTo>
                  <a:pt x="4011" y="14025"/>
                  <a:pt x="3965" y="14077"/>
                  <a:pt x="4018" y="14114"/>
                </a:cubicBezTo>
              </a:path>
              <a:path w="3498" h="1366">
                <a:moveTo>
                  <a:pt x="4266" y="13891"/>
                </a:moveTo>
                <a:cubicBezTo>
                  <a:pt x="4376" y="13877"/>
                  <a:pt x="4444" y="13867"/>
                  <a:pt x="4539" y="13891"/>
                </a:cubicBezTo>
                <a:cubicBezTo>
                  <a:pt x="4564" y="13891"/>
                  <a:pt x="4572" y="13891"/>
                  <a:pt x="4589" y="13891"/>
                </a:cubicBezTo>
                <a:cubicBezTo>
                  <a:pt x="4589" y="13819"/>
                  <a:pt x="4606" y="13712"/>
                  <a:pt x="4539" y="13667"/>
                </a:cubicBezTo>
                <a:cubicBezTo>
                  <a:pt x="4385" y="13563"/>
                  <a:pt x="4287" y="13735"/>
                  <a:pt x="4266" y="13866"/>
                </a:cubicBezTo>
                <a:cubicBezTo>
                  <a:pt x="4206" y="14240"/>
                  <a:pt x="4520" y="14132"/>
                  <a:pt x="4738" y="14064"/>
                </a:cubicBezTo>
              </a:path>
              <a:path w="3498" h="1366">
                <a:moveTo>
                  <a:pt x="5085" y="13667"/>
                </a:moveTo>
                <a:cubicBezTo>
                  <a:pt x="4997" y="13702"/>
                  <a:pt x="4902" y="13735"/>
                  <a:pt x="4862" y="13816"/>
                </a:cubicBezTo>
                <a:cubicBezTo>
                  <a:pt x="4950" y="13875"/>
                  <a:pt x="5250" y="13985"/>
                  <a:pt x="5184" y="14139"/>
                </a:cubicBezTo>
                <a:cubicBezTo>
                  <a:pt x="5127" y="14272"/>
                  <a:pt x="4970" y="14212"/>
                  <a:pt x="4887" y="1416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27320" y="5197320"/>
            <a:ext cx="731880" cy="276480"/>
          </a:xfrm>
          <a:custGeom>
            <a:avLst/>
            <a:gdLst/>
            <a:ahLst/>
            <a:rect l="l" t="t" r="r" b="b"/>
            <a:pathLst>
              <a:path w="2035" h="770">
                <a:moveTo>
                  <a:pt x="11187" y="14858"/>
                </a:moveTo>
                <a:cubicBezTo>
                  <a:pt x="11215" y="14977"/>
                  <a:pt x="11231" y="15092"/>
                  <a:pt x="11261" y="15205"/>
                </a:cubicBezTo>
              </a:path>
              <a:path w="2035" h="770">
                <a:moveTo>
                  <a:pt x="11261" y="15205"/>
                </a:moveTo>
                <a:lnTo>
                  <a:pt x="11261" y="15205"/>
                </a:lnTo>
              </a:path>
              <a:path w="2035" h="770">
                <a:moveTo>
                  <a:pt x="11237" y="14436"/>
                </a:moveTo>
                <a:cubicBezTo>
                  <a:pt x="11245" y="14436"/>
                  <a:pt x="11253" y="14436"/>
                  <a:pt x="11261" y="14436"/>
                </a:cubicBezTo>
              </a:path>
              <a:path w="2035" h="770">
                <a:moveTo>
                  <a:pt x="12576" y="14536"/>
                </a:moveTo>
                <a:cubicBezTo>
                  <a:pt x="12792" y="14514"/>
                  <a:pt x="13005" y="14494"/>
                  <a:pt x="13221" y="1448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960" y="5106960"/>
            <a:ext cx="4081320" cy="608040"/>
          </a:xfrm>
          <a:custGeom>
            <a:avLst/>
            <a:gdLst/>
            <a:ahLst/>
            <a:rect l="l" t="t" r="r" b="b"/>
            <a:pathLst>
              <a:path w="11337" h="1688">
                <a:moveTo>
                  <a:pt x="1811" y="14808"/>
                </a:moveTo>
                <a:cubicBezTo>
                  <a:pt x="1811" y="14810"/>
                  <a:pt x="1945" y="14620"/>
                  <a:pt x="2034" y="14585"/>
                </a:cubicBezTo>
                <a:cubicBezTo>
                  <a:pt x="2075" y="14585"/>
                  <a:pt x="2117" y="14585"/>
                  <a:pt x="2158" y="14585"/>
                </a:cubicBezTo>
                <a:cubicBezTo>
                  <a:pt x="2204" y="14788"/>
                  <a:pt x="2145" y="14887"/>
                  <a:pt x="2009" y="15056"/>
                </a:cubicBezTo>
                <a:cubicBezTo>
                  <a:pt x="2162" y="15035"/>
                  <a:pt x="2277" y="15047"/>
                  <a:pt x="2232" y="15255"/>
                </a:cubicBezTo>
                <a:cubicBezTo>
                  <a:pt x="2191" y="15448"/>
                  <a:pt x="1962" y="15670"/>
                  <a:pt x="1786" y="15503"/>
                </a:cubicBezTo>
                <a:cubicBezTo>
                  <a:pt x="1786" y="15444"/>
                  <a:pt x="1795" y="15424"/>
                  <a:pt x="1860" y="15429"/>
                </a:cubicBezTo>
              </a:path>
              <a:path w="11337" h="1688">
                <a:moveTo>
                  <a:pt x="3101" y="15180"/>
                </a:moveTo>
                <a:cubicBezTo>
                  <a:pt x="3076" y="15057"/>
                  <a:pt x="2982" y="14925"/>
                  <a:pt x="2828" y="15032"/>
                </a:cubicBezTo>
                <a:cubicBezTo>
                  <a:pt x="2603" y="15188"/>
                  <a:pt x="2632" y="15431"/>
                  <a:pt x="2778" y="15577"/>
                </a:cubicBezTo>
                <a:cubicBezTo>
                  <a:pt x="2950" y="15448"/>
                  <a:pt x="3036" y="15370"/>
                  <a:pt x="3101" y="15156"/>
                </a:cubicBezTo>
                <a:cubicBezTo>
                  <a:pt x="3117" y="15211"/>
                  <a:pt x="3191" y="15481"/>
                  <a:pt x="3274" y="15478"/>
                </a:cubicBezTo>
                <a:cubicBezTo>
                  <a:pt x="3299" y="15453"/>
                  <a:pt x="3324" y="15429"/>
                  <a:pt x="3349" y="15404"/>
                </a:cubicBezTo>
              </a:path>
              <a:path w="11337" h="1688">
                <a:moveTo>
                  <a:pt x="3671" y="15032"/>
                </a:moveTo>
                <a:cubicBezTo>
                  <a:pt x="3693" y="15054"/>
                  <a:pt x="3702" y="15065"/>
                  <a:pt x="3696" y="15032"/>
                </a:cubicBezTo>
                <a:cubicBezTo>
                  <a:pt x="3629" y="14931"/>
                  <a:pt x="3500" y="15117"/>
                  <a:pt x="3473" y="15180"/>
                </a:cubicBezTo>
                <a:cubicBezTo>
                  <a:pt x="3333" y="15509"/>
                  <a:pt x="3596" y="15589"/>
                  <a:pt x="3845" y="15429"/>
                </a:cubicBezTo>
                <a:cubicBezTo>
                  <a:pt x="3886" y="15387"/>
                  <a:pt x="3928" y="15346"/>
                  <a:pt x="3969" y="15304"/>
                </a:cubicBezTo>
              </a:path>
              <a:path w="11337" h="1688">
                <a:moveTo>
                  <a:pt x="3994" y="15081"/>
                </a:moveTo>
                <a:cubicBezTo>
                  <a:pt x="3999" y="15172"/>
                  <a:pt x="3987" y="15475"/>
                  <a:pt x="4118" y="15503"/>
                </a:cubicBezTo>
                <a:cubicBezTo>
                  <a:pt x="4325" y="15547"/>
                  <a:pt x="4387" y="15202"/>
                  <a:pt x="4415" y="15081"/>
                </a:cubicBezTo>
                <a:cubicBezTo>
                  <a:pt x="4415" y="15089"/>
                  <a:pt x="4415" y="15098"/>
                  <a:pt x="4415" y="15106"/>
                </a:cubicBezTo>
                <a:cubicBezTo>
                  <a:pt x="4427" y="15155"/>
                  <a:pt x="4475" y="15387"/>
                  <a:pt x="4564" y="15379"/>
                </a:cubicBezTo>
                <a:cubicBezTo>
                  <a:pt x="4605" y="15362"/>
                  <a:pt x="4647" y="15346"/>
                  <a:pt x="4688" y="15329"/>
                </a:cubicBezTo>
              </a:path>
              <a:path w="11337" h="1688">
                <a:moveTo>
                  <a:pt x="4887" y="14709"/>
                </a:moveTo>
                <a:cubicBezTo>
                  <a:pt x="4948" y="14940"/>
                  <a:pt x="5012" y="15174"/>
                  <a:pt x="5060" y="15404"/>
                </a:cubicBezTo>
                <a:cubicBezTo>
                  <a:pt x="5060" y="15437"/>
                  <a:pt x="5060" y="15437"/>
                  <a:pt x="5060" y="15379"/>
                </a:cubicBezTo>
              </a:path>
              <a:path w="11337" h="1688">
                <a:moveTo>
                  <a:pt x="4837" y="15106"/>
                </a:moveTo>
                <a:cubicBezTo>
                  <a:pt x="5014" y="15052"/>
                  <a:pt x="5197" y="14978"/>
                  <a:pt x="5358" y="15081"/>
                </a:cubicBezTo>
                <a:cubicBezTo>
                  <a:pt x="5396" y="15105"/>
                  <a:pt x="5383" y="15159"/>
                  <a:pt x="5432" y="15180"/>
                </a:cubicBezTo>
                <a:cubicBezTo>
                  <a:pt x="5440" y="15180"/>
                  <a:pt x="5449" y="15180"/>
                  <a:pt x="5457" y="15180"/>
                </a:cubicBezTo>
                <a:cubicBezTo>
                  <a:pt x="5520" y="15102"/>
                  <a:pt x="5512" y="15028"/>
                  <a:pt x="5457" y="14932"/>
                </a:cubicBezTo>
                <a:cubicBezTo>
                  <a:pt x="5308" y="15007"/>
                  <a:pt x="5100" y="15203"/>
                  <a:pt x="5308" y="15379"/>
                </a:cubicBezTo>
                <a:cubicBezTo>
                  <a:pt x="5427" y="15480"/>
                  <a:pt x="5641" y="15411"/>
                  <a:pt x="5755" y="15354"/>
                </a:cubicBezTo>
              </a:path>
              <a:path w="11337" h="1688">
                <a:moveTo>
                  <a:pt x="6152" y="14660"/>
                </a:moveTo>
                <a:cubicBezTo>
                  <a:pt x="6087" y="14530"/>
                  <a:pt x="6106" y="14890"/>
                  <a:pt x="6077" y="15032"/>
                </a:cubicBezTo>
                <a:cubicBezTo>
                  <a:pt x="6019" y="15319"/>
                  <a:pt x="5941" y="15596"/>
                  <a:pt x="5854" y="15875"/>
                </a:cubicBezTo>
              </a:path>
              <a:path w="11337" h="1688">
                <a:moveTo>
                  <a:pt x="6896" y="15156"/>
                </a:moveTo>
                <a:cubicBezTo>
                  <a:pt x="6882" y="15113"/>
                  <a:pt x="6759" y="15047"/>
                  <a:pt x="6697" y="15056"/>
                </a:cubicBezTo>
                <a:cubicBezTo>
                  <a:pt x="6423" y="15095"/>
                  <a:pt x="6528" y="15454"/>
                  <a:pt x="6573" y="15602"/>
                </a:cubicBezTo>
                <a:cubicBezTo>
                  <a:pt x="6800" y="15592"/>
                  <a:pt x="6968" y="15508"/>
                  <a:pt x="6896" y="15230"/>
                </a:cubicBezTo>
                <a:cubicBezTo>
                  <a:pt x="6852" y="15165"/>
                  <a:pt x="6846" y="15146"/>
                  <a:pt x="6796" y="15131"/>
                </a:cubicBezTo>
              </a:path>
              <a:path w="11337" h="1688">
                <a:moveTo>
                  <a:pt x="6995" y="14759"/>
                </a:moveTo>
                <a:cubicBezTo>
                  <a:pt x="7032" y="14974"/>
                  <a:pt x="7066" y="15188"/>
                  <a:pt x="7094" y="15404"/>
                </a:cubicBezTo>
                <a:cubicBezTo>
                  <a:pt x="7143" y="15574"/>
                  <a:pt x="7083" y="15213"/>
                  <a:pt x="7119" y="15131"/>
                </a:cubicBezTo>
                <a:cubicBezTo>
                  <a:pt x="7216" y="15010"/>
                  <a:pt x="7246" y="14968"/>
                  <a:pt x="7367" y="15007"/>
                </a:cubicBezTo>
                <a:cubicBezTo>
                  <a:pt x="7505" y="15214"/>
                  <a:pt x="7496" y="15328"/>
                  <a:pt x="7218" y="15404"/>
                </a:cubicBezTo>
                <a:cubicBezTo>
                  <a:pt x="7116" y="15404"/>
                  <a:pt x="7100" y="15378"/>
                  <a:pt x="7193" y="15255"/>
                </a:cubicBezTo>
              </a:path>
              <a:path w="11337" h="1688">
                <a:moveTo>
                  <a:pt x="7714" y="14536"/>
                </a:moveTo>
                <a:cubicBezTo>
                  <a:pt x="7764" y="14836"/>
                  <a:pt x="7805" y="15125"/>
                  <a:pt x="7813" y="15429"/>
                </a:cubicBezTo>
                <a:cubicBezTo>
                  <a:pt x="7813" y="15479"/>
                  <a:pt x="7807" y="15462"/>
                  <a:pt x="7789" y="15354"/>
                </a:cubicBezTo>
              </a:path>
              <a:path w="11337" h="1688">
                <a:moveTo>
                  <a:pt x="7615" y="15056"/>
                </a:moveTo>
                <a:cubicBezTo>
                  <a:pt x="7783" y="15010"/>
                  <a:pt x="7947" y="14965"/>
                  <a:pt x="8111" y="14908"/>
                </a:cubicBezTo>
                <a:cubicBezTo>
                  <a:pt x="8135" y="15096"/>
                  <a:pt x="8094" y="15285"/>
                  <a:pt x="8111" y="15478"/>
                </a:cubicBezTo>
                <a:cubicBezTo>
                  <a:pt x="8362" y="15400"/>
                  <a:pt x="8353" y="15203"/>
                  <a:pt x="8434" y="14957"/>
                </a:cubicBezTo>
                <a:cubicBezTo>
                  <a:pt x="8442" y="14941"/>
                  <a:pt x="8450" y="14924"/>
                  <a:pt x="8458" y="14908"/>
                </a:cubicBezTo>
                <a:cubicBezTo>
                  <a:pt x="8463" y="14992"/>
                  <a:pt x="8437" y="15174"/>
                  <a:pt x="8508" y="15230"/>
                </a:cubicBezTo>
                <a:cubicBezTo>
                  <a:pt x="8639" y="15230"/>
                  <a:pt x="8705" y="15189"/>
                  <a:pt x="8756" y="15056"/>
                </a:cubicBezTo>
              </a:path>
              <a:path w="11337" h="1688">
                <a:moveTo>
                  <a:pt x="8781" y="14833"/>
                </a:moveTo>
                <a:cubicBezTo>
                  <a:pt x="8756" y="14858"/>
                  <a:pt x="8731" y="14883"/>
                  <a:pt x="8706" y="14908"/>
                </a:cubicBezTo>
                <a:cubicBezTo>
                  <a:pt x="8787" y="15012"/>
                  <a:pt x="9058" y="15121"/>
                  <a:pt x="9004" y="15304"/>
                </a:cubicBezTo>
                <a:cubicBezTo>
                  <a:pt x="8920" y="15588"/>
                  <a:pt x="8729" y="15346"/>
                  <a:pt x="8781" y="15131"/>
                </a:cubicBezTo>
              </a:path>
              <a:path w="11337" h="1688">
                <a:moveTo>
                  <a:pt x="9277" y="14957"/>
                </a:moveTo>
                <a:cubicBezTo>
                  <a:pt x="9361" y="14965"/>
                  <a:pt x="9439" y="14982"/>
                  <a:pt x="9525" y="14982"/>
                </a:cubicBezTo>
                <a:cubicBezTo>
                  <a:pt x="9525" y="14919"/>
                  <a:pt x="9425" y="14782"/>
                  <a:pt x="9351" y="14808"/>
                </a:cubicBezTo>
                <a:cubicBezTo>
                  <a:pt x="9128" y="14887"/>
                  <a:pt x="9039" y="15395"/>
                  <a:pt x="9351" y="15404"/>
                </a:cubicBezTo>
                <a:cubicBezTo>
                  <a:pt x="9592" y="15323"/>
                  <a:pt x="9682" y="15289"/>
                  <a:pt x="9823" y="15180"/>
                </a:cubicBezTo>
              </a:path>
              <a:path w="11337" h="1688">
                <a:moveTo>
                  <a:pt x="10145" y="14263"/>
                </a:moveTo>
                <a:cubicBezTo>
                  <a:pt x="10186" y="14733"/>
                  <a:pt x="10188" y="15158"/>
                  <a:pt x="10145" y="15627"/>
                </a:cubicBezTo>
                <a:cubicBezTo>
                  <a:pt x="10145" y="15644"/>
                  <a:pt x="10145" y="15660"/>
                  <a:pt x="10145" y="15677"/>
                </a:cubicBezTo>
              </a:path>
              <a:path w="11337" h="1688">
                <a:moveTo>
                  <a:pt x="10592" y="14858"/>
                </a:moveTo>
                <a:cubicBezTo>
                  <a:pt x="10631" y="15008"/>
                  <a:pt x="10669" y="15156"/>
                  <a:pt x="10716" y="15304"/>
                </a:cubicBezTo>
                <a:cubicBezTo>
                  <a:pt x="10700" y="15126"/>
                  <a:pt x="10665" y="14880"/>
                  <a:pt x="10840" y="14759"/>
                </a:cubicBezTo>
                <a:cubicBezTo>
                  <a:pt x="10953" y="14713"/>
                  <a:pt x="10983" y="14697"/>
                  <a:pt x="11063" y="14709"/>
                </a:cubicBezTo>
              </a:path>
              <a:path w="11337" h="1688">
                <a:moveTo>
                  <a:pt x="11733" y="14660"/>
                </a:moveTo>
                <a:cubicBezTo>
                  <a:pt x="11587" y="14725"/>
                  <a:pt x="11270" y="14971"/>
                  <a:pt x="11534" y="15156"/>
                </a:cubicBezTo>
                <a:cubicBezTo>
                  <a:pt x="11786" y="15332"/>
                  <a:pt x="11763" y="14789"/>
                  <a:pt x="11757" y="14709"/>
                </a:cubicBezTo>
                <a:cubicBezTo>
                  <a:pt x="11788" y="15002"/>
                  <a:pt x="11873" y="15234"/>
                  <a:pt x="11807" y="15528"/>
                </a:cubicBezTo>
                <a:cubicBezTo>
                  <a:pt x="11789" y="15606"/>
                  <a:pt x="11734" y="15710"/>
                  <a:pt x="11683" y="15751"/>
                </a:cubicBezTo>
              </a:path>
              <a:path w="11337" h="1688">
                <a:moveTo>
                  <a:pt x="11956" y="14188"/>
                </a:moveTo>
                <a:cubicBezTo>
                  <a:pt x="11973" y="14488"/>
                  <a:pt x="12019" y="14783"/>
                  <a:pt x="12055" y="15081"/>
                </a:cubicBezTo>
                <a:cubicBezTo>
                  <a:pt x="12055" y="15089"/>
                  <a:pt x="12055" y="15098"/>
                  <a:pt x="12055" y="15106"/>
                </a:cubicBezTo>
                <a:cubicBezTo>
                  <a:pt x="12055" y="14850"/>
                  <a:pt x="12068" y="14774"/>
                  <a:pt x="12254" y="14610"/>
                </a:cubicBezTo>
                <a:cubicBezTo>
                  <a:pt x="12417" y="14727"/>
                  <a:pt x="12384" y="14862"/>
                  <a:pt x="12477" y="15056"/>
                </a:cubicBezTo>
                <a:cubicBezTo>
                  <a:pt x="12485" y="15064"/>
                  <a:pt x="12494" y="15073"/>
                  <a:pt x="12502" y="15081"/>
                </a:cubicBezTo>
              </a:path>
              <a:path w="11337" h="1688">
                <a:moveTo>
                  <a:pt x="12750" y="14263"/>
                </a:moveTo>
                <a:cubicBezTo>
                  <a:pt x="12750" y="14439"/>
                  <a:pt x="12787" y="14636"/>
                  <a:pt x="12824" y="14808"/>
                </a:cubicBezTo>
                <a:cubicBezTo>
                  <a:pt x="12836" y="14862"/>
                  <a:pt x="12899" y="15197"/>
                  <a:pt x="13047" y="15081"/>
                </a:cubicBezTo>
                <a:cubicBezTo>
                  <a:pt x="13104" y="14997"/>
                  <a:pt x="13123" y="14960"/>
                  <a:pt x="13122" y="148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4800" y="5823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431" y="16173"/>
                </a:moveTo>
                <a:lnTo>
                  <a:pt x="2431" y="1617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5786280"/>
            <a:ext cx="1501920" cy="312840"/>
          </a:xfrm>
          <a:custGeom>
            <a:avLst/>
            <a:gdLst/>
            <a:ahLst/>
            <a:rect l="l" t="t" r="r" b="b"/>
            <a:pathLst>
              <a:path w="4169" h="870">
                <a:moveTo>
                  <a:pt x="2480" y="16495"/>
                </a:moveTo>
                <a:cubicBezTo>
                  <a:pt x="2480" y="16436"/>
                  <a:pt x="2470" y="16442"/>
                  <a:pt x="2480" y="16446"/>
                </a:cubicBezTo>
                <a:cubicBezTo>
                  <a:pt x="2570" y="16482"/>
                  <a:pt x="2530" y="16792"/>
                  <a:pt x="2530" y="16892"/>
                </a:cubicBezTo>
                <a:cubicBezTo>
                  <a:pt x="2530" y="16900"/>
                  <a:pt x="2530" y="16909"/>
                  <a:pt x="2530" y="16917"/>
                </a:cubicBezTo>
              </a:path>
              <a:path w="4169" h="870">
                <a:moveTo>
                  <a:pt x="3101" y="16371"/>
                </a:moveTo>
                <a:cubicBezTo>
                  <a:pt x="2969" y="16391"/>
                  <a:pt x="2912" y="16447"/>
                  <a:pt x="2803" y="16520"/>
                </a:cubicBezTo>
                <a:cubicBezTo>
                  <a:pt x="2923" y="16620"/>
                  <a:pt x="3053" y="16592"/>
                  <a:pt x="3175" y="16694"/>
                </a:cubicBezTo>
                <a:cubicBezTo>
                  <a:pt x="3183" y="16710"/>
                  <a:pt x="3192" y="16727"/>
                  <a:pt x="3200" y="16743"/>
                </a:cubicBezTo>
                <a:cubicBezTo>
                  <a:pt x="3089" y="16843"/>
                  <a:pt x="3020" y="16868"/>
                  <a:pt x="2877" y="16892"/>
                </a:cubicBezTo>
                <a:cubicBezTo>
                  <a:pt x="2869" y="16892"/>
                  <a:pt x="2861" y="16892"/>
                  <a:pt x="2853" y="16892"/>
                </a:cubicBezTo>
              </a:path>
              <a:path w="4169" h="870">
                <a:moveTo>
                  <a:pt x="3398" y="16545"/>
                </a:moveTo>
                <a:cubicBezTo>
                  <a:pt x="3317" y="16719"/>
                  <a:pt x="3255" y="16796"/>
                  <a:pt x="3373" y="16942"/>
                </a:cubicBezTo>
                <a:cubicBezTo>
                  <a:pt x="3503" y="16919"/>
                  <a:pt x="3747" y="16846"/>
                  <a:pt x="3671" y="16644"/>
                </a:cubicBezTo>
                <a:cubicBezTo>
                  <a:pt x="3642" y="16567"/>
                  <a:pt x="3562" y="16556"/>
                  <a:pt x="3497" y="16545"/>
                </a:cubicBezTo>
              </a:path>
              <a:path w="4169" h="870">
                <a:moveTo>
                  <a:pt x="4093" y="16470"/>
                </a:moveTo>
                <a:cubicBezTo>
                  <a:pt x="3991" y="16486"/>
                  <a:pt x="3951" y="16504"/>
                  <a:pt x="3870" y="16570"/>
                </a:cubicBezTo>
                <a:cubicBezTo>
                  <a:pt x="3937" y="16676"/>
                  <a:pt x="4088" y="16684"/>
                  <a:pt x="4217" y="16743"/>
                </a:cubicBezTo>
                <a:cubicBezTo>
                  <a:pt x="4170" y="16931"/>
                  <a:pt x="4096" y="16891"/>
                  <a:pt x="3919" y="16867"/>
                </a:cubicBezTo>
                <a:cubicBezTo>
                  <a:pt x="3911" y="16867"/>
                  <a:pt x="3902" y="16867"/>
                  <a:pt x="3894" y="16867"/>
                </a:cubicBezTo>
              </a:path>
              <a:path w="4169" h="870">
                <a:moveTo>
                  <a:pt x="4638" y="16470"/>
                </a:moveTo>
                <a:cubicBezTo>
                  <a:pt x="4697" y="16412"/>
                  <a:pt x="4563" y="16404"/>
                  <a:pt x="4514" y="16446"/>
                </a:cubicBezTo>
                <a:cubicBezTo>
                  <a:pt x="4378" y="16563"/>
                  <a:pt x="4388" y="16772"/>
                  <a:pt x="4539" y="16867"/>
                </a:cubicBezTo>
                <a:cubicBezTo>
                  <a:pt x="4695" y="16965"/>
                  <a:pt x="4989" y="16905"/>
                  <a:pt x="5085" y="16743"/>
                </a:cubicBezTo>
                <a:cubicBezTo>
                  <a:pt x="5129" y="16669"/>
                  <a:pt x="5132" y="16531"/>
                  <a:pt x="5060" y="16495"/>
                </a:cubicBezTo>
                <a:cubicBezTo>
                  <a:pt x="4990" y="16530"/>
                  <a:pt x="4966" y="16638"/>
                  <a:pt x="5011" y="16718"/>
                </a:cubicBezTo>
                <a:cubicBezTo>
                  <a:pt x="5066" y="16815"/>
                  <a:pt x="5191" y="16913"/>
                  <a:pt x="5308" y="16892"/>
                </a:cubicBezTo>
                <a:cubicBezTo>
                  <a:pt x="5373" y="16860"/>
                  <a:pt x="5401" y="16840"/>
                  <a:pt x="5432" y="16793"/>
                </a:cubicBezTo>
              </a:path>
              <a:path w="4169" h="870">
                <a:moveTo>
                  <a:pt x="5358" y="16073"/>
                </a:moveTo>
                <a:cubicBezTo>
                  <a:pt x="5387" y="16218"/>
                  <a:pt x="5465" y="16374"/>
                  <a:pt x="5507" y="16520"/>
                </a:cubicBezTo>
                <a:cubicBezTo>
                  <a:pt x="5526" y="16585"/>
                  <a:pt x="5580" y="16819"/>
                  <a:pt x="5581" y="16818"/>
                </a:cubicBezTo>
                <a:cubicBezTo>
                  <a:pt x="5619" y="16780"/>
                  <a:pt x="5637" y="16757"/>
                  <a:pt x="5655" y="16718"/>
                </a:cubicBezTo>
              </a:path>
              <a:path w="4169" h="870">
                <a:moveTo>
                  <a:pt x="5755" y="16570"/>
                </a:moveTo>
                <a:cubicBezTo>
                  <a:pt x="5848" y="16550"/>
                  <a:pt x="5932" y="16545"/>
                  <a:pt x="6028" y="16545"/>
                </a:cubicBezTo>
                <a:cubicBezTo>
                  <a:pt x="6036" y="16545"/>
                  <a:pt x="6044" y="16545"/>
                  <a:pt x="6052" y="16545"/>
                </a:cubicBezTo>
                <a:cubicBezTo>
                  <a:pt x="6005" y="16458"/>
                  <a:pt x="5970" y="16355"/>
                  <a:pt x="5854" y="16421"/>
                </a:cubicBezTo>
                <a:cubicBezTo>
                  <a:pt x="5713" y="16501"/>
                  <a:pt x="5744" y="16659"/>
                  <a:pt x="5854" y="16743"/>
                </a:cubicBezTo>
                <a:cubicBezTo>
                  <a:pt x="6042" y="16888"/>
                  <a:pt x="6203" y="16728"/>
                  <a:pt x="6350" y="16619"/>
                </a:cubicBezTo>
              </a:path>
              <a:path w="4169" h="870">
                <a:moveTo>
                  <a:pt x="6524" y="16396"/>
                </a:moveTo>
                <a:cubicBezTo>
                  <a:pt x="6464" y="16404"/>
                  <a:pt x="6260" y="16400"/>
                  <a:pt x="6300" y="16520"/>
                </a:cubicBezTo>
                <a:cubicBezTo>
                  <a:pt x="6332" y="16614"/>
                  <a:pt x="6556" y="16626"/>
                  <a:pt x="6623" y="16718"/>
                </a:cubicBezTo>
                <a:cubicBezTo>
                  <a:pt x="6698" y="16820"/>
                  <a:pt x="6499" y="16887"/>
                  <a:pt x="6424" y="16917"/>
                </a:cubicBezTo>
                <a:cubicBezTo>
                  <a:pt x="6416" y="16917"/>
                  <a:pt x="6408" y="16917"/>
                  <a:pt x="6400" y="169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20" y="64152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2040" y="2482920"/>
            <a:ext cx="1982880" cy="54000"/>
          </a:xfrm>
          <a:custGeom>
            <a:avLst/>
            <a:gdLst/>
            <a:ahLst/>
            <a:rect l="l" t="t" r="r" b="b"/>
            <a:pathLst>
              <a:path w="5508" h="150">
                <a:moveTo>
                  <a:pt x="14114" y="6945"/>
                </a:moveTo>
                <a:cubicBezTo>
                  <a:pt x="14172" y="6945"/>
                  <a:pt x="14180" y="6945"/>
                  <a:pt x="14238" y="6945"/>
                </a:cubicBezTo>
                <a:cubicBezTo>
                  <a:pt x="14381" y="6945"/>
                  <a:pt x="14522" y="6963"/>
                  <a:pt x="14660" y="6970"/>
                </a:cubicBezTo>
                <a:cubicBezTo>
                  <a:pt x="14762" y="6976"/>
                  <a:pt x="14856" y="6989"/>
                  <a:pt x="14957" y="6995"/>
                </a:cubicBezTo>
                <a:cubicBezTo>
                  <a:pt x="15147" y="7007"/>
                  <a:pt x="15338" y="7034"/>
                  <a:pt x="15528" y="7045"/>
                </a:cubicBezTo>
                <a:cubicBezTo>
                  <a:pt x="15915" y="7067"/>
                  <a:pt x="16309" y="7040"/>
                  <a:pt x="16694" y="7020"/>
                </a:cubicBezTo>
                <a:cubicBezTo>
                  <a:pt x="16894" y="7009"/>
                  <a:pt x="17091" y="7000"/>
                  <a:pt x="17289" y="6970"/>
                </a:cubicBezTo>
                <a:cubicBezTo>
                  <a:pt x="17490" y="6940"/>
                  <a:pt x="17706" y="6909"/>
                  <a:pt x="17909" y="6896"/>
                </a:cubicBezTo>
                <a:cubicBezTo>
                  <a:pt x="18467" y="6862"/>
                  <a:pt x="19037" y="6896"/>
                  <a:pt x="19596" y="68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27320" y="4813200"/>
            <a:ext cx="446400" cy="204840"/>
          </a:xfrm>
          <a:custGeom>
            <a:avLst/>
            <a:gdLst/>
            <a:ahLst/>
            <a:rect l="l" t="t" r="r" b="b"/>
            <a:pathLst>
              <a:path w="1241" h="571">
                <a:moveTo>
                  <a:pt x="11286" y="13469"/>
                </a:moveTo>
                <a:cubicBezTo>
                  <a:pt x="11254" y="13450"/>
                  <a:pt x="11260" y="13451"/>
                  <a:pt x="11212" y="13444"/>
                </a:cubicBezTo>
                <a:cubicBezTo>
                  <a:pt x="11159" y="13436"/>
                  <a:pt x="11302" y="13401"/>
                  <a:pt x="11336" y="13395"/>
                </a:cubicBezTo>
                <a:cubicBezTo>
                  <a:pt x="11407" y="13383"/>
                  <a:pt x="11489" y="13374"/>
                  <a:pt x="11559" y="13370"/>
                </a:cubicBezTo>
                <a:cubicBezTo>
                  <a:pt x="11628" y="13366"/>
                  <a:pt x="11693" y="13379"/>
                  <a:pt x="11757" y="13395"/>
                </a:cubicBezTo>
                <a:cubicBezTo>
                  <a:pt x="11802" y="13406"/>
                  <a:pt x="11866" y="13415"/>
                  <a:pt x="11906" y="13444"/>
                </a:cubicBezTo>
                <a:cubicBezTo>
                  <a:pt x="11963" y="13486"/>
                  <a:pt x="12028" y="13548"/>
                  <a:pt x="12080" y="13593"/>
                </a:cubicBezTo>
                <a:cubicBezTo>
                  <a:pt x="12112" y="13620"/>
                  <a:pt x="12169" y="13657"/>
                  <a:pt x="12204" y="13692"/>
                </a:cubicBezTo>
                <a:cubicBezTo>
                  <a:pt x="12231" y="13719"/>
                  <a:pt x="12265" y="13723"/>
                  <a:pt x="12278" y="13742"/>
                </a:cubicBezTo>
                <a:cubicBezTo>
                  <a:pt x="12302" y="13775"/>
                  <a:pt x="12333" y="13869"/>
                  <a:pt x="12353" y="13891"/>
                </a:cubicBezTo>
                <a:cubicBezTo>
                  <a:pt x="12362" y="13900"/>
                  <a:pt x="12410" y="13923"/>
                  <a:pt x="12427" y="139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7600" y="5652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960" y="2446200"/>
            <a:ext cx="2635200" cy="152640"/>
          </a:xfrm>
          <a:custGeom>
            <a:avLst/>
            <a:gdLst/>
            <a:ahLst/>
            <a:rect l="l" t="t" r="r" b="b"/>
            <a:pathLst>
              <a:path w="7319" h="423">
                <a:moveTo>
                  <a:pt x="1488" y="7218"/>
                </a:moveTo>
                <a:cubicBezTo>
                  <a:pt x="1564" y="7193"/>
                  <a:pt x="1775" y="7162"/>
                  <a:pt x="1885" y="7144"/>
                </a:cubicBezTo>
                <a:cubicBezTo>
                  <a:pt x="2231" y="7087"/>
                  <a:pt x="2628" y="6983"/>
                  <a:pt x="2977" y="6970"/>
                </a:cubicBezTo>
                <a:cubicBezTo>
                  <a:pt x="3138" y="6964"/>
                  <a:pt x="3311" y="7011"/>
                  <a:pt x="3473" y="7020"/>
                </a:cubicBezTo>
                <a:cubicBezTo>
                  <a:pt x="3167" y="7043"/>
                  <a:pt x="2862" y="7049"/>
                  <a:pt x="2555" y="7069"/>
                </a:cubicBezTo>
                <a:cubicBezTo>
                  <a:pt x="2290" y="7089"/>
                  <a:pt x="2241" y="7098"/>
                  <a:pt x="2084" y="7094"/>
                </a:cubicBezTo>
                <a:cubicBezTo>
                  <a:pt x="2656" y="7078"/>
                  <a:pt x="3222" y="6995"/>
                  <a:pt x="3795" y="6995"/>
                </a:cubicBezTo>
              </a:path>
              <a:path w="7319" h="423">
                <a:moveTo>
                  <a:pt x="4514" y="6871"/>
                </a:moveTo>
                <a:cubicBezTo>
                  <a:pt x="4654" y="6926"/>
                  <a:pt x="4775" y="7034"/>
                  <a:pt x="4911" y="7094"/>
                </a:cubicBezTo>
                <a:cubicBezTo>
                  <a:pt x="5135" y="7194"/>
                  <a:pt x="5269" y="6964"/>
                  <a:pt x="5383" y="6821"/>
                </a:cubicBezTo>
                <a:cubicBezTo>
                  <a:pt x="5391" y="6813"/>
                  <a:pt x="5399" y="6804"/>
                  <a:pt x="5407" y="6796"/>
                </a:cubicBezTo>
                <a:cubicBezTo>
                  <a:pt x="5524" y="6967"/>
                  <a:pt x="5558" y="7069"/>
                  <a:pt x="5804" y="7045"/>
                </a:cubicBezTo>
                <a:cubicBezTo>
                  <a:pt x="5954" y="7030"/>
                  <a:pt x="6100" y="6934"/>
                  <a:pt x="6226" y="6871"/>
                </a:cubicBezTo>
                <a:cubicBezTo>
                  <a:pt x="6344" y="7054"/>
                  <a:pt x="6428" y="7067"/>
                  <a:pt x="6648" y="6995"/>
                </a:cubicBezTo>
                <a:cubicBezTo>
                  <a:pt x="6767" y="6956"/>
                  <a:pt x="6908" y="6889"/>
                  <a:pt x="7020" y="6846"/>
                </a:cubicBezTo>
                <a:cubicBezTo>
                  <a:pt x="7100" y="7054"/>
                  <a:pt x="7175" y="7101"/>
                  <a:pt x="7417" y="7045"/>
                </a:cubicBezTo>
                <a:cubicBezTo>
                  <a:pt x="7555" y="7013"/>
                  <a:pt x="7701" y="6942"/>
                  <a:pt x="7838" y="6896"/>
                </a:cubicBezTo>
                <a:cubicBezTo>
                  <a:pt x="7918" y="7020"/>
                  <a:pt x="7927" y="7066"/>
                  <a:pt x="8111" y="7045"/>
                </a:cubicBezTo>
                <a:cubicBezTo>
                  <a:pt x="8363" y="7016"/>
                  <a:pt x="8539" y="6986"/>
                  <a:pt x="8781" y="7020"/>
                </a:cubicBezTo>
                <a:cubicBezTo>
                  <a:pt x="8789" y="7020"/>
                  <a:pt x="8798" y="7020"/>
                  <a:pt x="8806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4760" y="2571840"/>
            <a:ext cx="1116000" cy="17280"/>
          </a:xfrm>
          <a:custGeom>
            <a:avLst/>
            <a:gdLst/>
            <a:ahLst/>
            <a:rect l="l" t="t" r="r" b="b"/>
            <a:pathLst>
              <a:path w="3101" h="50">
                <a:moveTo>
                  <a:pt x="17289" y="7193"/>
                </a:moveTo>
                <a:cubicBezTo>
                  <a:pt x="17836" y="7193"/>
                  <a:pt x="18380" y="7169"/>
                  <a:pt x="18926" y="7169"/>
                </a:cubicBezTo>
                <a:cubicBezTo>
                  <a:pt x="19179" y="7169"/>
                  <a:pt x="19419" y="7181"/>
                  <a:pt x="19670" y="7169"/>
                </a:cubicBezTo>
                <a:cubicBezTo>
                  <a:pt x="19853" y="7160"/>
                  <a:pt x="20032" y="7144"/>
                  <a:pt x="20216" y="7144"/>
                </a:cubicBezTo>
                <a:cubicBezTo>
                  <a:pt x="20271" y="7144"/>
                  <a:pt x="20322" y="7143"/>
                  <a:pt x="20365" y="7169"/>
                </a:cubicBezTo>
                <a:cubicBezTo>
                  <a:pt x="20389" y="7169"/>
                  <a:pt x="20397" y="7169"/>
                  <a:pt x="20389" y="71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4680" y="4375080"/>
            <a:ext cx="1134720" cy="689040"/>
          </a:xfrm>
          <a:custGeom>
            <a:avLst/>
            <a:gdLst/>
            <a:ahLst/>
            <a:rect l="l" t="t" r="r" b="b"/>
            <a:pathLst>
              <a:path w="3151" h="1911">
                <a:moveTo>
                  <a:pt x="1538" y="13196"/>
                </a:moveTo>
                <a:cubicBezTo>
                  <a:pt x="1538" y="13383"/>
                  <a:pt x="1528" y="13613"/>
                  <a:pt x="1612" y="13816"/>
                </a:cubicBezTo>
                <a:cubicBezTo>
                  <a:pt x="1714" y="13980"/>
                  <a:pt x="1719" y="14028"/>
                  <a:pt x="1836" y="14064"/>
                </a:cubicBezTo>
                <a:cubicBezTo>
                  <a:pt x="2023" y="13877"/>
                  <a:pt x="2092" y="13715"/>
                  <a:pt x="2009" y="13444"/>
                </a:cubicBezTo>
                <a:cubicBezTo>
                  <a:pt x="1959" y="13279"/>
                  <a:pt x="1799" y="13204"/>
                  <a:pt x="1637" y="13295"/>
                </a:cubicBezTo>
                <a:cubicBezTo>
                  <a:pt x="1637" y="13303"/>
                  <a:pt x="1637" y="13312"/>
                  <a:pt x="1637" y="13320"/>
                </a:cubicBezTo>
                <a:cubicBezTo>
                  <a:pt x="1816" y="13369"/>
                  <a:pt x="1947" y="13308"/>
                  <a:pt x="2059" y="13146"/>
                </a:cubicBezTo>
                <a:cubicBezTo>
                  <a:pt x="2115" y="13065"/>
                  <a:pt x="2113" y="12965"/>
                  <a:pt x="2133" y="12874"/>
                </a:cubicBezTo>
                <a:cubicBezTo>
                  <a:pt x="2196" y="12981"/>
                  <a:pt x="2280" y="13099"/>
                  <a:pt x="2332" y="13221"/>
                </a:cubicBezTo>
                <a:cubicBezTo>
                  <a:pt x="2367" y="13304"/>
                  <a:pt x="2440" y="13422"/>
                  <a:pt x="2381" y="13395"/>
                </a:cubicBezTo>
                <a:cubicBezTo>
                  <a:pt x="2345" y="13224"/>
                  <a:pt x="2279" y="13051"/>
                  <a:pt x="2307" y="12874"/>
                </a:cubicBezTo>
                <a:cubicBezTo>
                  <a:pt x="2315" y="12849"/>
                  <a:pt x="2324" y="12824"/>
                  <a:pt x="2332" y="12799"/>
                </a:cubicBezTo>
                <a:cubicBezTo>
                  <a:pt x="2454" y="12784"/>
                  <a:pt x="2513" y="12778"/>
                  <a:pt x="2629" y="12849"/>
                </a:cubicBezTo>
                <a:cubicBezTo>
                  <a:pt x="2734" y="12913"/>
                  <a:pt x="2815" y="13205"/>
                  <a:pt x="2902" y="13221"/>
                </a:cubicBezTo>
                <a:cubicBezTo>
                  <a:pt x="3021" y="13243"/>
                  <a:pt x="3033" y="13165"/>
                  <a:pt x="3101" y="13097"/>
                </a:cubicBezTo>
              </a:path>
              <a:path w="3151" h="1911">
                <a:moveTo>
                  <a:pt x="2679" y="12229"/>
                </a:moveTo>
                <a:cubicBezTo>
                  <a:pt x="2787" y="12294"/>
                  <a:pt x="2857" y="12350"/>
                  <a:pt x="2927" y="12477"/>
                </a:cubicBezTo>
                <a:cubicBezTo>
                  <a:pt x="3012" y="12631"/>
                  <a:pt x="3050" y="12932"/>
                  <a:pt x="3225" y="13022"/>
                </a:cubicBezTo>
                <a:cubicBezTo>
                  <a:pt x="3404" y="13114"/>
                  <a:pt x="3463" y="12762"/>
                  <a:pt x="3473" y="12675"/>
                </a:cubicBezTo>
                <a:cubicBezTo>
                  <a:pt x="3473" y="12642"/>
                  <a:pt x="3473" y="12609"/>
                  <a:pt x="3473" y="12576"/>
                </a:cubicBezTo>
                <a:cubicBezTo>
                  <a:pt x="3465" y="12543"/>
                  <a:pt x="3456" y="12510"/>
                  <a:pt x="3448" y="12477"/>
                </a:cubicBezTo>
                <a:cubicBezTo>
                  <a:pt x="3493" y="12552"/>
                  <a:pt x="3546" y="12663"/>
                  <a:pt x="3646" y="12700"/>
                </a:cubicBezTo>
                <a:cubicBezTo>
                  <a:pt x="3823" y="12766"/>
                  <a:pt x="3910" y="12517"/>
                  <a:pt x="3944" y="12402"/>
                </a:cubicBezTo>
                <a:cubicBezTo>
                  <a:pt x="3979" y="12285"/>
                  <a:pt x="3955" y="12263"/>
                  <a:pt x="3944" y="12154"/>
                </a:cubicBezTo>
                <a:cubicBezTo>
                  <a:pt x="4148" y="12360"/>
                  <a:pt x="4371" y="12536"/>
                  <a:pt x="4539" y="12774"/>
                </a:cubicBezTo>
                <a:cubicBezTo>
                  <a:pt x="4625" y="12926"/>
                  <a:pt x="4658" y="12959"/>
                  <a:pt x="4638" y="13072"/>
                </a:cubicBezTo>
                <a:cubicBezTo>
                  <a:pt x="4453" y="13152"/>
                  <a:pt x="4269" y="13114"/>
                  <a:pt x="4142" y="12923"/>
                </a:cubicBezTo>
                <a:cubicBezTo>
                  <a:pt x="3977" y="12675"/>
                  <a:pt x="4211" y="12398"/>
                  <a:pt x="4415" y="12278"/>
                </a:cubicBezTo>
                <a:cubicBezTo>
                  <a:pt x="4561" y="12192"/>
                  <a:pt x="4559" y="12248"/>
                  <a:pt x="4663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960" y="4894200"/>
            <a:ext cx="1081080" cy="909720"/>
          </a:xfrm>
          <a:custGeom>
            <a:avLst/>
            <a:gdLst/>
            <a:ahLst/>
            <a:rect l="l" t="t" r="r" b="b"/>
            <a:pathLst>
              <a:path w="3003" h="2531">
                <a:moveTo>
                  <a:pt x="3175" y="14263"/>
                </a:moveTo>
                <a:cubicBezTo>
                  <a:pt x="3351" y="14376"/>
                  <a:pt x="3417" y="14503"/>
                  <a:pt x="3522" y="14709"/>
                </a:cubicBezTo>
                <a:cubicBezTo>
                  <a:pt x="3644" y="14948"/>
                  <a:pt x="3779" y="15224"/>
                  <a:pt x="3870" y="15478"/>
                </a:cubicBezTo>
                <a:cubicBezTo>
                  <a:pt x="3870" y="15486"/>
                  <a:pt x="3870" y="15495"/>
                  <a:pt x="3870" y="15503"/>
                </a:cubicBezTo>
              </a:path>
              <a:path w="3003" h="2531">
                <a:moveTo>
                  <a:pt x="3225" y="16123"/>
                </a:moveTo>
                <a:cubicBezTo>
                  <a:pt x="3682" y="16039"/>
                  <a:pt x="4059" y="15882"/>
                  <a:pt x="4440" y="15602"/>
                </a:cubicBezTo>
                <a:cubicBezTo>
                  <a:pt x="4857" y="15296"/>
                  <a:pt x="5185" y="14796"/>
                  <a:pt x="4936" y="14263"/>
                </a:cubicBezTo>
                <a:cubicBezTo>
                  <a:pt x="4676" y="13707"/>
                  <a:pt x="3998" y="13530"/>
                  <a:pt x="3448" y="13643"/>
                </a:cubicBezTo>
                <a:cubicBezTo>
                  <a:pt x="2909" y="13754"/>
                  <a:pt x="2235" y="14137"/>
                  <a:pt x="2034" y="14684"/>
                </a:cubicBezTo>
                <a:cubicBezTo>
                  <a:pt x="1847" y="15193"/>
                  <a:pt x="2381" y="15842"/>
                  <a:pt x="2803" y="16049"/>
                </a:cubicBezTo>
                <a:cubicBezTo>
                  <a:pt x="3135" y="16212"/>
                  <a:pt x="3519" y="16001"/>
                  <a:pt x="3820" y="1587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75040" y="4983120"/>
            <a:ext cx="90360" cy="889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10765" y="13866"/>
                </a:moveTo>
                <a:cubicBezTo>
                  <a:pt x="10772" y="13970"/>
                  <a:pt x="10771" y="14169"/>
                  <a:pt x="10939" y="14064"/>
                </a:cubicBezTo>
                <a:cubicBezTo>
                  <a:pt x="11006" y="13997"/>
                  <a:pt x="11031" y="13982"/>
                  <a:pt x="11013" y="13915"/>
                </a:cubicBezTo>
                <a:cubicBezTo>
                  <a:pt x="10936" y="13839"/>
                  <a:pt x="10923" y="13849"/>
                  <a:pt x="10815" y="1386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0920" y="3875040"/>
            <a:ext cx="71280" cy="7308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2998" y="10815"/>
                </a:moveTo>
                <a:cubicBezTo>
                  <a:pt x="12967" y="10754"/>
                  <a:pt x="12952" y="10899"/>
                  <a:pt x="12948" y="10939"/>
                </a:cubicBezTo>
                <a:cubicBezTo>
                  <a:pt x="13051" y="10983"/>
                  <a:pt x="13122" y="10967"/>
                  <a:pt x="13146" y="10840"/>
                </a:cubicBezTo>
                <a:cubicBezTo>
                  <a:pt x="13170" y="10710"/>
                  <a:pt x="13081" y="10772"/>
                  <a:pt x="13022" y="10790"/>
                </a:cubicBezTo>
                <a:cubicBezTo>
                  <a:pt x="13014" y="10790"/>
                  <a:pt x="13006" y="10790"/>
                  <a:pt x="12998" y="107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3920" y="5045040"/>
            <a:ext cx="90360" cy="81000"/>
          </a:xfrm>
          <a:custGeom>
            <a:avLst/>
            <a:gdLst/>
            <a:ahLst/>
            <a:rect l="l" t="t" r="r" b="b"/>
            <a:pathLst>
              <a:path w="249" h="224">
                <a:moveTo>
                  <a:pt x="16123" y="14139"/>
                </a:moveTo>
                <a:cubicBezTo>
                  <a:pt x="16142" y="14081"/>
                  <a:pt x="16137" y="14098"/>
                  <a:pt x="16173" y="14139"/>
                </a:cubicBezTo>
                <a:cubicBezTo>
                  <a:pt x="16200" y="14170"/>
                  <a:pt x="16305" y="14306"/>
                  <a:pt x="16346" y="14213"/>
                </a:cubicBezTo>
                <a:cubicBezTo>
                  <a:pt x="16369" y="14123"/>
                  <a:pt x="16377" y="14099"/>
                  <a:pt x="16371" y="14039"/>
                </a:cubicBezTo>
                <a:cubicBezTo>
                  <a:pt x="16336" y="14039"/>
                  <a:pt x="16319" y="14035"/>
                  <a:pt x="16297" y="14015"/>
                </a:cubicBezTo>
                <a:cubicBezTo>
                  <a:pt x="16177" y="14133"/>
                  <a:pt x="16207" y="14195"/>
                  <a:pt x="16346" y="1423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6160" y="3017880"/>
            <a:ext cx="196920" cy="206280"/>
          </a:xfrm>
          <a:custGeom>
            <a:avLst/>
            <a:gdLst/>
            <a:ahLst/>
            <a:rect l="l" t="t" r="r" b="b"/>
            <a:pathLst>
              <a:path w="547" h="571">
                <a:moveTo>
                  <a:pt x="2183" y="8434"/>
                </a:moveTo>
                <a:cubicBezTo>
                  <a:pt x="2183" y="8409"/>
                  <a:pt x="2183" y="8401"/>
                  <a:pt x="2158" y="8409"/>
                </a:cubicBezTo>
                <a:cubicBezTo>
                  <a:pt x="2197" y="8399"/>
                  <a:pt x="2213" y="8384"/>
                  <a:pt x="2257" y="8384"/>
                </a:cubicBezTo>
                <a:cubicBezTo>
                  <a:pt x="2290" y="8384"/>
                  <a:pt x="2323" y="8384"/>
                  <a:pt x="2356" y="8384"/>
                </a:cubicBezTo>
                <a:cubicBezTo>
                  <a:pt x="2370" y="8426"/>
                  <a:pt x="2405" y="8409"/>
                  <a:pt x="2456" y="8409"/>
                </a:cubicBezTo>
                <a:cubicBezTo>
                  <a:pt x="2510" y="8409"/>
                  <a:pt x="2550" y="8430"/>
                  <a:pt x="2604" y="8434"/>
                </a:cubicBezTo>
                <a:cubicBezTo>
                  <a:pt x="2637" y="8437"/>
                  <a:pt x="2671" y="8434"/>
                  <a:pt x="2704" y="8434"/>
                </a:cubicBezTo>
                <a:cubicBezTo>
                  <a:pt x="2704" y="8533"/>
                  <a:pt x="2702" y="8614"/>
                  <a:pt x="2679" y="8706"/>
                </a:cubicBezTo>
                <a:cubicBezTo>
                  <a:pt x="2661" y="8777"/>
                  <a:pt x="2685" y="8848"/>
                  <a:pt x="2704" y="8905"/>
                </a:cubicBezTo>
                <a:cubicBezTo>
                  <a:pt x="2704" y="8930"/>
                  <a:pt x="2704" y="8938"/>
                  <a:pt x="2704" y="89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7840" y="2313000"/>
            <a:ext cx="822240" cy="509400"/>
          </a:xfrm>
          <a:custGeom>
            <a:avLst/>
            <a:gdLst/>
            <a:ahLst/>
            <a:rect l="l" t="t" r="r" b="b"/>
            <a:pathLst>
              <a:path w="2283" h="1415">
                <a:moveTo>
                  <a:pt x="7045" y="7218"/>
                </a:moveTo>
                <a:cubicBezTo>
                  <a:pt x="7059" y="7387"/>
                  <a:pt x="7069" y="7545"/>
                  <a:pt x="7069" y="7714"/>
                </a:cubicBezTo>
                <a:cubicBezTo>
                  <a:pt x="7013" y="7447"/>
                  <a:pt x="6951" y="7174"/>
                  <a:pt x="7020" y="6896"/>
                </a:cubicBezTo>
                <a:cubicBezTo>
                  <a:pt x="7136" y="6640"/>
                  <a:pt x="7161" y="6557"/>
                  <a:pt x="7367" y="6524"/>
                </a:cubicBezTo>
                <a:cubicBezTo>
                  <a:pt x="7497" y="6688"/>
                  <a:pt x="7684" y="7039"/>
                  <a:pt x="7317" y="7144"/>
                </a:cubicBezTo>
                <a:cubicBezTo>
                  <a:pt x="7192" y="7123"/>
                  <a:pt x="7165" y="7122"/>
                  <a:pt x="7094" y="7094"/>
                </a:cubicBezTo>
                <a:cubicBezTo>
                  <a:pt x="7148" y="7242"/>
                  <a:pt x="7169" y="7395"/>
                  <a:pt x="7392" y="7367"/>
                </a:cubicBezTo>
                <a:cubicBezTo>
                  <a:pt x="7585" y="7343"/>
                  <a:pt x="7709" y="6875"/>
                  <a:pt x="7838" y="7020"/>
                </a:cubicBezTo>
                <a:cubicBezTo>
                  <a:pt x="7971" y="7170"/>
                  <a:pt x="7902" y="7240"/>
                  <a:pt x="8111" y="7293"/>
                </a:cubicBezTo>
              </a:path>
              <a:path w="2283" h="1415">
                <a:moveTo>
                  <a:pt x="8285" y="6945"/>
                </a:moveTo>
                <a:cubicBezTo>
                  <a:pt x="8150" y="6893"/>
                  <a:pt x="8142" y="7147"/>
                  <a:pt x="8161" y="7243"/>
                </a:cubicBezTo>
                <a:cubicBezTo>
                  <a:pt x="8177" y="7268"/>
                  <a:pt x="8194" y="7292"/>
                  <a:pt x="8210" y="7317"/>
                </a:cubicBezTo>
                <a:cubicBezTo>
                  <a:pt x="8347" y="7249"/>
                  <a:pt x="8309" y="7122"/>
                  <a:pt x="8334" y="6970"/>
                </a:cubicBezTo>
                <a:cubicBezTo>
                  <a:pt x="8334" y="6987"/>
                  <a:pt x="8334" y="7003"/>
                  <a:pt x="8334" y="7020"/>
                </a:cubicBezTo>
                <a:cubicBezTo>
                  <a:pt x="8349" y="7271"/>
                  <a:pt x="8409" y="7514"/>
                  <a:pt x="8434" y="7764"/>
                </a:cubicBezTo>
                <a:cubicBezTo>
                  <a:pt x="8434" y="7789"/>
                  <a:pt x="8434" y="7813"/>
                  <a:pt x="8434" y="7838"/>
                </a:cubicBezTo>
              </a:path>
              <a:path w="2283" h="1415">
                <a:moveTo>
                  <a:pt x="8384" y="6548"/>
                </a:moveTo>
                <a:cubicBezTo>
                  <a:pt x="8444" y="6779"/>
                  <a:pt x="8503" y="7012"/>
                  <a:pt x="8558" y="7243"/>
                </a:cubicBezTo>
                <a:cubicBezTo>
                  <a:pt x="8558" y="7147"/>
                  <a:pt x="8500" y="6735"/>
                  <a:pt x="8682" y="6896"/>
                </a:cubicBezTo>
                <a:cubicBezTo>
                  <a:pt x="8785" y="6987"/>
                  <a:pt x="8771" y="7110"/>
                  <a:pt x="8905" y="7144"/>
                </a:cubicBezTo>
                <a:cubicBezTo>
                  <a:pt x="8943" y="6904"/>
                  <a:pt x="8869" y="6685"/>
                  <a:pt x="8880" y="6449"/>
                </a:cubicBezTo>
                <a:cubicBezTo>
                  <a:pt x="8880" y="6406"/>
                  <a:pt x="8886" y="6415"/>
                  <a:pt x="8905" y="6499"/>
                </a:cubicBezTo>
                <a:cubicBezTo>
                  <a:pt x="8910" y="6656"/>
                  <a:pt x="8852" y="7028"/>
                  <a:pt x="9079" y="7069"/>
                </a:cubicBezTo>
                <a:cubicBezTo>
                  <a:pt x="9232" y="7096"/>
                  <a:pt x="9246" y="6938"/>
                  <a:pt x="9277" y="68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30680" y="2340000"/>
            <a:ext cx="527040" cy="71280"/>
          </a:xfrm>
          <a:custGeom>
            <a:avLst/>
            <a:gdLst/>
            <a:ahLst/>
            <a:rect l="l" t="t" r="r" b="b"/>
            <a:pathLst>
              <a:path w="1465" h="199">
                <a:moveTo>
                  <a:pt x="7863" y="6623"/>
                </a:moveTo>
                <a:cubicBezTo>
                  <a:pt x="7863" y="6631"/>
                  <a:pt x="7863" y="6640"/>
                  <a:pt x="7863" y="6648"/>
                </a:cubicBezTo>
              </a:path>
              <a:path w="1465" h="199">
                <a:moveTo>
                  <a:pt x="8731" y="6697"/>
                </a:moveTo>
                <a:cubicBezTo>
                  <a:pt x="8930" y="6627"/>
                  <a:pt x="9125" y="6555"/>
                  <a:pt x="9327" y="649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3920" y="2098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622" y="5829"/>
                </a:moveTo>
                <a:lnTo>
                  <a:pt x="22622" y="5829"/>
                </a:lnTo>
                <a:lnTo>
                  <a:pt x="22622" y="582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13760" y="2241720"/>
            <a:ext cx="1795320" cy="571320"/>
          </a:xfrm>
          <a:custGeom>
            <a:avLst/>
            <a:gdLst/>
            <a:ahLst/>
            <a:rect l="l" t="t" r="r" b="b"/>
            <a:pathLst>
              <a:path w="4987" h="1588">
                <a:moveTo>
                  <a:pt x="20315" y="7045"/>
                </a:moveTo>
                <a:cubicBezTo>
                  <a:pt x="20521" y="7067"/>
                  <a:pt x="20700" y="7047"/>
                  <a:pt x="20861" y="6896"/>
                </a:cubicBezTo>
                <a:cubicBezTo>
                  <a:pt x="21003" y="6763"/>
                  <a:pt x="21037" y="6646"/>
                  <a:pt x="21059" y="6499"/>
                </a:cubicBezTo>
                <a:cubicBezTo>
                  <a:pt x="20910" y="6584"/>
                  <a:pt x="20719" y="6731"/>
                  <a:pt x="20687" y="6921"/>
                </a:cubicBezTo>
                <a:cubicBezTo>
                  <a:pt x="20695" y="6946"/>
                  <a:pt x="20704" y="6970"/>
                  <a:pt x="20712" y="6995"/>
                </a:cubicBezTo>
                <a:cubicBezTo>
                  <a:pt x="20974" y="7035"/>
                  <a:pt x="21028" y="6999"/>
                  <a:pt x="21208" y="6796"/>
                </a:cubicBezTo>
                <a:cubicBezTo>
                  <a:pt x="21288" y="6705"/>
                  <a:pt x="21288" y="6470"/>
                  <a:pt x="21406" y="6499"/>
                </a:cubicBezTo>
                <a:cubicBezTo>
                  <a:pt x="21463" y="6513"/>
                  <a:pt x="21456" y="6543"/>
                  <a:pt x="21506" y="6573"/>
                </a:cubicBezTo>
                <a:cubicBezTo>
                  <a:pt x="21418" y="6452"/>
                  <a:pt x="21309" y="6545"/>
                  <a:pt x="21233" y="6672"/>
                </a:cubicBezTo>
                <a:cubicBezTo>
                  <a:pt x="21151" y="6809"/>
                  <a:pt x="21236" y="7094"/>
                  <a:pt x="21382" y="6871"/>
                </a:cubicBezTo>
                <a:cubicBezTo>
                  <a:pt x="21425" y="6739"/>
                  <a:pt x="21437" y="6707"/>
                  <a:pt x="21456" y="6623"/>
                </a:cubicBezTo>
                <a:cubicBezTo>
                  <a:pt x="21456" y="6631"/>
                  <a:pt x="21456" y="6640"/>
                  <a:pt x="21456" y="6648"/>
                </a:cubicBezTo>
                <a:cubicBezTo>
                  <a:pt x="21351" y="6973"/>
                  <a:pt x="21232" y="7289"/>
                  <a:pt x="21134" y="7615"/>
                </a:cubicBezTo>
                <a:cubicBezTo>
                  <a:pt x="21117" y="7673"/>
                  <a:pt x="21101" y="7731"/>
                  <a:pt x="21084" y="7789"/>
                </a:cubicBezTo>
                <a:cubicBezTo>
                  <a:pt x="21218" y="7711"/>
                  <a:pt x="21337" y="7598"/>
                  <a:pt x="21382" y="7367"/>
                </a:cubicBezTo>
                <a:cubicBezTo>
                  <a:pt x="21423" y="7157"/>
                  <a:pt x="21348" y="7077"/>
                  <a:pt x="21183" y="6995"/>
                </a:cubicBezTo>
                <a:cubicBezTo>
                  <a:pt x="21323" y="6948"/>
                  <a:pt x="21465" y="6900"/>
                  <a:pt x="21580" y="6796"/>
                </a:cubicBezTo>
                <a:cubicBezTo>
                  <a:pt x="21640" y="6715"/>
                  <a:pt x="21655" y="6703"/>
                  <a:pt x="21679" y="6648"/>
                </a:cubicBezTo>
                <a:cubicBezTo>
                  <a:pt x="21682" y="6706"/>
                  <a:pt x="21651" y="6867"/>
                  <a:pt x="21754" y="6871"/>
                </a:cubicBezTo>
                <a:cubicBezTo>
                  <a:pt x="21902" y="6876"/>
                  <a:pt x="21959" y="6722"/>
                  <a:pt x="22027" y="6623"/>
                </a:cubicBezTo>
                <a:cubicBezTo>
                  <a:pt x="22059" y="6688"/>
                  <a:pt x="22006" y="6716"/>
                  <a:pt x="22051" y="6772"/>
                </a:cubicBezTo>
                <a:cubicBezTo>
                  <a:pt x="22152" y="6897"/>
                  <a:pt x="22327" y="6651"/>
                  <a:pt x="22374" y="6598"/>
                </a:cubicBezTo>
                <a:cubicBezTo>
                  <a:pt x="22382" y="6590"/>
                  <a:pt x="22391" y="6581"/>
                  <a:pt x="22399" y="6573"/>
                </a:cubicBezTo>
              </a:path>
              <a:path w="4987" h="1588">
                <a:moveTo>
                  <a:pt x="22523" y="6524"/>
                </a:moveTo>
                <a:cubicBezTo>
                  <a:pt x="22449" y="6579"/>
                  <a:pt x="22394" y="6650"/>
                  <a:pt x="22374" y="6747"/>
                </a:cubicBezTo>
                <a:cubicBezTo>
                  <a:pt x="22343" y="6894"/>
                  <a:pt x="22562" y="6781"/>
                  <a:pt x="22597" y="6772"/>
                </a:cubicBezTo>
              </a:path>
              <a:path w="4987" h="1588">
                <a:moveTo>
                  <a:pt x="23068" y="6474"/>
                </a:moveTo>
                <a:cubicBezTo>
                  <a:pt x="22888" y="6553"/>
                  <a:pt x="22846" y="6634"/>
                  <a:pt x="22771" y="6821"/>
                </a:cubicBezTo>
                <a:cubicBezTo>
                  <a:pt x="22886" y="6802"/>
                  <a:pt x="22910" y="6745"/>
                  <a:pt x="22969" y="6648"/>
                </a:cubicBezTo>
                <a:cubicBezTo>
                  <a:pt x="22956" y="6714"/>
                  <a:pt x="22918" y="6806"/>
                  <a:pt x="23044" y="6772"/>
                </a:cubicBezTo>
                <a:cubicBezTo>
                  <a:pt x="23149" y="6744"/>
                  <a:pt x="23258" y="6535"/>
                  <a:pt x="23217" y="6697"/>
                </a:cubicBezTo>
                <a:cubicBezTo>
                  <a:pt x="23196" y="6779"/>
                  <a:pt x="23188" y="6795"/>
                  <a:pt x="23192" y="6846"/>
                </a:cubicBezTo>
                <a:cubicBezTo>
                  <a:pt x="23256" y="6769"/>
                  <a:pt x="23289" y="6624"/>
                  <a:pt x="23366" y="6573"/>
                </a:cubicBezTo>
                <a:cubicBezTo>
                  <a:pt x="23454" y="6515"/>
                  <a:pt x="23434" y="6770"/>
                  <a:pt x="23465" y="6871"/>
                </a:cubicBezTo>
              </a:path>
              <a:path w="4987" h="1588">
                <a:moveTo>
                  <a:pt x="23738" y="6524"/>
                </a:moveTo>
                <a:cubicBezTo>
                  <a:pt x="23723" y="6555"/>
                  <a:pt x="23534" y="6971"/>
                  <a:pt x="23664" y="6896"/>
                </a:cubicBezTo>
                <a:cubicBezTo>
                  <a:pt x="23780" y="6829"/>
                  <a:pt x="23775" y="6709"/>
                  <a:pt x="23788" y="6598"/>
                </a:cubicBezTo>
                <a:cubicBezTo>
                  <a:pt x="23796" y="6822"/>
                  <a:pt x="23821" y="7043"/>
                  <a:pt x="23812" y="7268"/>
                </a:cubicBezTo>
                <a:cubicBezTo>
                  <a:pt x="23794" y="7697"/>
                  <a:pt x="23588" y="7734"/>
                  <a:pt x="23267" y="7590"/>
                </a:cubicBezTo>
                <a:cubicBezTo>
                  <a:pt x="23326" y="7184"/>
                  <a:pt x="23487" y="7114"/>
                  <a:pt x="23862" y="6921"/>
                </a:cubicBezTo>
              </a:path>
              <a:path w="4987" h="1588">
                <a:moveTo>
                  <a:pt x="24036" y="6573"/>
                </a:moveTo>
                <a:cubicBezTo>
                  <a:pt x="24036" y="6685"/>
                  <a:pt x="24005" y="6787"/>
                  <a:pt x="23986" y="6896"/>
                </a:cubicBezTo>
                <a:cubicBezTo>
                  <a:pt x="23971" y="6979"/>
                  <a:pt x="24084" y="6863"/>
                  <a:pt x="24135" y="6796"/>
                </a:cubicBezTo>
                <a:cubicBezTo>
                  <a:pt x="24189" y="6723"/>
                  <a:pt x="24214" y="6723"/>
                  <a:pt x="24209" y="6672"/>
                </a:cubicBezTo>
                <a:cubicBezTo>
                  <a:pt x="24178" y="6799"/>
                  <a:pt x="24171" y="6825"/>
                  <a:pt x="24284" y="6896"/>
                </a:cubicBezTo>
                <a:cubicBezTo>
                  <a:pt x="24500" y="6747"/>
                  <a:pt x="24595" y="6575"/>
                  <a:pt x="24606" y="6300"/>
                </a:cubicBezTo>
                <a:cubicBezTo>
                  <a:pt x="24598" y="6275"/>
                  <a:pt x="24589" y="6251"/>
                  <a:pt x="24581" y="6226"/>
                </a:cubicBezTo>
                <a:cubicBezTo>
                  <a:pt x="24441" y="6398"/>
                  <a:pt x="24394" y="6638"/>
                  <a:pt x="24408" y="6871"/>
                </a:cubicBezTo>
                <a:cubicBezTo>
                  <a:pt x="24431" y="6962"/>
                  <a:pt x="24432" y="6993"/>
                  <a:pt x="24507" y="6995"/>
                </a:cubicBezTo>
              </a:path>
              <a:path w="4987" h="1588">
                <a:moveTo>
                  <a:pt x="24929" y="6598"/>
                </a:moveTo>
                <a:cubicBezTo>
                  <a:pt x="24824" y="6535"/>
                  <a:pt x="24735" y="6699"/>
                  <a:pt x="24705" y="6796"/>
                </a:cubicBezTo>
                <a:cubicBezTo>
                  <a:pt x="24653" y="6966"/>
                  <a:pt x="24755" y="6929"/>
                  <a:pt x="24829" y="6846"/>
                </a:cubicBezTo>
                <a:cubicBezTo>
                  <a:pt x="24854" y="6813"/>
                  <a:pt x="24879" y="6780"/>
                  <a:pt x="24904" y="6747"/>
                </a:cubicBezTo>
                <a:cubicBezTo>
                  <a:pt x="24904" y="6695"/>
                  <a:pt x="24872" y="6830"/>
                  <a:pt x="24904" y="6871"/>
                </a:cubicBezTo>
                <a:cubicBezTo>
                  <a:pt x="24990" y="6981"/>
                  <a:pt x="25099" y="6661"/>
                  <a:pt x="25102" y="6648"/>
                </a:cubicBezTo>
                <a:cubicBezTo>
                  <a:pt x="25114" y="6589"/>
                  <a:pt x="25080" y="6589"/>
                  <a:pt x="25127" y="6573"/>
                </a:cubicBezTo>
                <a:cubicBezTo>
                  <a:pt x="25162" y="6677"/>
                  <a:pt x="25194" y="6705"/>
                  <a:pt x="25152" y="6821"/>
                </a:cubicBezTo>
                <a:cubicBezTo>
                  <a:pt x="25097" y="6970"/>
                  <a:pt x="25112" y="6932"/>
                  <a:pt x="25301" y="6970"/>
                </a:cubicBezTo>
                <a:cubicBezTo>
                  <a:pt x="25293" y="6904"/>
                  <a:pt x="25284" y="6838"/>
                  <a:pt x="25276" y="677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9840" y="4589640"/>
            <a:ext cx="9360" cy="18720"/>
          </a:xfrm>
          <a:custGeom>
            <a:avLst/>
            <a:gdLst/>
            <a:ahLst/>
            <a:rect l="l" t="t" r="r" b="b"/>
            <a:pathLst>
              <a:path w="25" h="50">
                <a:moveTo>
                  <a:pt x="16446" y="12799"/>
                </a:moveTo>
                <a:cubicBezTo>
                  <a:pt x="16446" y="12791"/>
                  <a:pt x="16446" y="12782"/>
                  <a:pt x="16446" y="12774"/>
                </a:cubicBezTo>
              </a:path>
              <a:path w="25" h="50">
                <a:moveTo>
                  <a:pt x="16446" y="12774"/>
                </a:moveTo>
                <a:lnTo>
                  <a:pt x="16446" y="12774"/>
                </a:lnTo>
              </a:path>
              <a:path w="25" h="50">
                <a:moveTo>
                  <a:pt x="16446" y="12750"/>
                </a:moveTo>
                <a:lnTo>
                  <a:pt x="16446" y="12750"/>
                </a:lnTo>
              </a:path>
              <a:path w="25" h="50">
                <a:moveTo>
                  <a:pt x="16470" y="12750"/>
                </a:moveTo>
                <a:lnTo>
                  <a:pt x="16470" y="12750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6040" y="4357800"/>
            <a:ext cx="795240" cy="446040"/>
          </a:xfrm>
          <a:custGeom>
            <a:avLst/>
            <a:gdLst/>
            <a:ahLst/>
            <a:rect l="l" t="t" r="r" b="b"/>
            <a:pathLst>
              <a:path w="2209" h="1241">
                <a:moveTo>
                  <a:pt x="12477" y="12254"/>
                </a:moveTo>
                <a:cubicBezTo>
                  <a:pt x="12505" y="12254"/>
                  <a:pt x="12515" y="12256"/>
                  <a:pt x="12526" y="12278"/>
                </a:cubicBezTo>
                <a:cubicBezTo>
                  <a:pt x="12506" y="12261"/>
                  <a:pt x="12468" y="12204"/>
                  <a:pt x="12427" y="12179"/>
                </a:cubicBezTo>
                <a:cubicBezTo>
                  <a:pt x="12348" y="12131"/>
                  <a:pt x="12243" y="12108"/>
                  <a:pt x="12154" y="12105"/>
                </a:cubicBezTo>
                <a:cubicBezTo>
                  <a:pt x="12021" y="12100"/>
                  <a:pt x="11911" y="12123"/>
                  <a:pt x="11782" y="12154"/>
                </a:cubicBezTo>
                <a:cubicBezTo>
                  <a:pt x="11665" y="12182"/>
                  <a:pt x="11567" y="12228"/>
                  <a:pt x="11460" y="12278"/>
                </a:cubicBezTo>
                <a:cubicBezTo>
                  <a:pt x="11342" y="12333"/>
                  <a:pt x="11183" y="12356"/>
                  <a:pt x="11088" y="12452"/>
                </a:cubicBezTo>
                <a:cubicBezTo>
                  <a:pt x="11018" y="12523"/>
                  <a:pt x="10991" y="12630"/>
                  <a:pt x="10988" y="12725"/>
                </a:cubicBezTo>
                <a:cubicBezTo>
                  <a:pt x="10985" y="12824"/>
                  <a:pt x="11005" y="12963"/>
                  <a:pt x="11063" y="13047"/>
                </a:cubicBezTo>
                <a:cubicBezTo>
                  <a:pt x="11162" y="13190"/>
                  <a:pt x="11287" y="13191"/>
                  <a:pt x="11435" y="13246"/>
                </a:cubicBezTo>
                <a:cubicBezTo>
                  <a:pt x="11597" y="13306"/>
                  <a:pt x="11757" y="13333"/>
                  <a:pt x="11931" y="13345"/>
                </a:cubicBezTo>
                <a:cubicBezTo>
                  <a:pt x="12105" y="13357"/>
                  <a:pt x="12280" y="13306"/>
                  <a:pt x="12452" y="13295"/>
                </a:cubicBezTo>
                <a:cubicBezTo>
                  <a:pt x="12585" y="13286"/>
                  <a:pt x="12721" y="13275"/>
                  <a:pt x="12849" y="13246"/>
                </a:cubicBezTo>
                <a:cubicBezTo>
                  <a:pt x="12945" y="13225"/>
                  <a:pt x="13092" y="13156"/>
                  <a:pt x="13146" y="13072"/>
                </a:cubicBezTo>
                <a:cubicBezTo>
                  <a:pt x="13203" y="12984"/>
                  <a:pt x="13209" y="12868"/>
                  <a:pt x="13171" y="12774"/>
                </a:cubicBezTo>
                <a:cubicBezTo>
                  <a:pt x="13150" y="12722"/>
                  <a:pt x="13120" y="12622"/>
                  <a:pt x="13072" y="12576"/>
                </a:cubicBezTo>
                <a:cubicBezTo>
                  <a:pt x="13039" y="12544"/>
                  <a:pt x="12968" y="12488"/>
                  <a:pt x="12923" y="12452"/>
                </a:cubicBezTo>
                <a:cubicBezTo>
                  <a:pt x="12864" y="12404"/>
                  <a:pt x="12792" y="12363"/>
                  <a:pt x="12725" y="12328"/>
                </a:cubicBezTo>
                <a:cubicBezTo>
                  <a:pt x="12686" y="12307"/>
                  <a:pt x="12643" y="12296"/>
                  <a:pt x="12601" y="12278"/>
                </a:cubicBezTo>
                <a:cubicBezTo>
                  <a:pt x="12546" y="12255"/>
                  <a:pt x="12521" y="12271"/>
                  <a:pt x="12452" y="12254"/>
                </a:cubicBezTo>
                <a:cubicBezTo>
                  <a:pt x="12381" y="12236"/>
                  <a:pt x="12303" y="12212"/>
                  <a:pt x="12229" y="12204"/>
                </a:cubicBezTo>
                <a:cubicBezTo>
                  <a:pt x="12146" y="12195"/>
                  <a:pt x="12048" y="12216"/>
                  <a:pt x="12005" y="122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4375080"/>
            <a:ext cx="1268640" cy="492120"/>
          </a:xfrm>
          <a:custGeom>
            <a:avLst/>
            <a:gdLst/>
            <a:ahLst/>
            <a:rect l="l" t="t" r="r" b="b"/>
            <a:pathLst>
              <a:path w="3523" h="1366">
                <a:moveTo>
                  <a:pt x="16470" y="12750"/>
                </a:moveTo>
                <a:cubicBezTo>
                  <a:pt x="16439" y="12859"/>
                  <a:pt x="16395" y="12983"/>
                  <a:pt x="16371" y="13097"/>
                </a:cubicBezTo>
                <a:cubicBezTo>
                  <a:pt x="16353" y="13181"/>
                  <a:pt x="16261" y="13412"/>
                  <a:pt x="16321" y="13494"/>
                </a:cubicBezTo>
                <a:cubicBezTo>
                  <a:pt x="16346" y="13502"/>
                  <a:pt x="16371" y="13511"/>
                  <a:pt x="16396" y="13519"/>
                </a:cubicBezTo>
                <a:cubicBezTo>
                  <a:pt x="16548" y="13460"/>
                  <a:pt x="16657" y="13399"/>
                  <a:pt x="16694" y="13221"/>
                </a:cubicBezTo>
                <a:cubicBezTo>
                  <a:pt x="16732" y="13036"/>
                  <a:pt x="16639" y="12951"/>
                  <a:pt x="16495" y="12874"/>
                </a:cubicBezTo>
                <a:cubicBezTo>
                  <a:pt x="16482" y="12884"/>
                  <a:pt x="16404" y="12981"/>
                  <a:pt x="16594" y="12998"/>
                </a:cubicBezTo>
                <a:cubicBezTo>
                  <a:pt x="16801" y="13017"/>
                  <a:pt x="17012" y="12805"/>
                  <a:pt x="17115" y="12650"/>
                </a:cubicBezTo>
                <a:cubicBezTo>
                  <a:pt x="17222" y="12489"/>
                  <a:pt x="17239" y="12339"/>
                  <a:pt x="17239" y="12154"/>
                </a:cubicBezTo>
                <a:cubicBezTo>
                  <a:pt x="17185" y="12379"/>
                  <a:pt x="17147" y="12615"/>
                  <a:pt x="17115" y="12849"/>
                </a:cubicBezTo>
                <a:cubicBezTo>
                  <a:pt x="17084" y="13075"/>
                  <a:pt x="17083" y="13156"/>
                  <a:pt x="17165" y="13345"/>
                </a:cubicBezTo>
                <a:cubicBezTo>
                  <a:pt x="17281" y="13268"/>
                  <a:pt x="17424" y="13093"/>
                  <a:pt x="17363" y="12923"/>
                </a:cubicBezTo>
                <a:cubicBezTo>
                  <a:pt x="17345" y="12873"/>
                  <a:pt x="17263" y="12771"/>
                  <a:pt x="17264" y="12824"/>
                </a:cubicBezTo>
                <a:cubicBezTo>
                  <a:pt x="17265" y="12896"/>
                  <a:pt x="17270" y="12845"/>
                  <a:pt x="17314" y="12923"/>
                </a:cubicBezTo>
                <a:cubicBezTo>
                  <a:pt x="17528" y="12934"/>
                  <a:pt x="17641" y="12896"/>
                  <a:pt x="17760" y="12700"/>
                </a:cubicBezTo>
                <a:cubicBezTo>
                  <a:pt x="17846" y="12558"/>
                  <a:pt x="17882" y="12412"/>
                  <a:pt x="17909" y="12254"/>
                </a:cubicBezTo>
                <a:cubicBezTo>
                  <a:pt x="17909" y="12246"/>
                  <a:pt x="17909" y="12237"/>
                  <a:pt x="17909" y="12229"/>
                </a:cubicBezTo>
                <a:cubicBezTo>
                  <a:pt x="17882" y="12310"/>
                  <a:pt x="17870" y="12342"/>
                  <a:pt x="17859" y="12427"/>
                </a:cubicBezTo>
                <a:cubicBezTo>
                  <a:pt x="17827" y="12662"/>
                  <a:pt x="17729" y="12935"/>
                  <a:pt x="17735" y="13171"/>
                </a:cubicBezTo>
                <a:cubicBezTo>
                  <a:pt x="17738" y="13297"/>
                  <a:pt x="17799" y="13354"/>
                  <a:pt x="17884" y="13221"/>
                </a:cubicBezTo>
                <a:cubicBezTo>
                  <a:pt x="17954" y="13111"/>
                  <a:pt x="18004" y="12968"/>
                  <a:pt x="18058" y="12849"/>
                </a:cubicBezTo>
                <a:cubicBezTo>
                  <a:pt x="18058" y="12816"/>
                  <a:pt x="18058" y="12783"/>
                  <a:pt x="18058" y="12750"/>
                </a:cubicBezTo>
                <a:cubicBezTo>
                  <a:pt x="18041" y="12842"/>
                  <a:pt x="18016" y="12880"/>
                  <a:pt x="18008" y="12973"/>
                </a:cubicBezTo>
                <a:cubicBezTo>
                  <a:pt x="17999" y="13076"/>
                  <a:pt x="17999" y="13247"/>
                  <a:pt x="18157" y="13196"/>
                </a:cubicBezTo>
                <a:cubicBezTo>
                  <a:pt x="18328" y="13141"/>
                  <a:pt x="18360" y="12915"/>
                  <a:pt x="18405" y="12774"/>
                </a:cubicBezTo>
                <a:cubicBezTo>
                  <a:pt x="18381" y="12752"/>
                  <a:pt x="18428" y="12689"/>
                  <a:pt x="18380" y="12799"/>
                </a:cubicBezTo>
                <a:cubicBezTo>
                  <a:pt x="18331" y="12990"/>
                  <a:pt x="18314" y="13072"/>
                  <a:pt x="18355" y="13246"/>
                </a:cubicBezTo>
                <a:cubicBezTo>
                  <a:pt x="18547" y="13167"/>
                  <a:pt x="18635" y="13066"/>
                  <a:pt x="18728" y="12874"/>
                </a:cubicBezTo>
                <a:cubicBezTo>
                  <a:pt x="18771" y="12787"/>
                  <a:pt x="18780" y="12716"/>
                  <a:pt x="18802" y="12626"/>
                </a:cubicBezTo>
                <a:cubicBezTo>
                  <a:pt x="18869" y="12796"/>
                  <a:pt x="18918" y="12933"/>
                  <a:pt x="18926" y="13122"/>
                </a:cubicBezTo>
                <a:cubicBezTo>
                  <a:pt x="18932" y="13262"/>
                  <a:pt x="18825" y="13288"/>
                  <a:pt x="18703" y="13246"/>
                </a:cubicBezTo>
                <a:cubicBezTo>
                  <a:pt x="18638" y="13202"/>
                  <a:pt x="18618" y="13196"/>
                  <a:pt x="18604" y="13146"/>
                </a:cubicBezTo>
                <a:cubicBezTo>
                  <a:pt x="18666" y="13209"/>
                  <a:pt x="18664" y="13235"/>
                  <a:pt x="18752" y="13246"/>
                </a:cubicBezTo>
                <a:cubicBezTo>
                  <a:pt x="19023" y="13279"/>
                  <a:pt x="19235" y="13178"/>
                  <a:pt x="19372" y="12948"/>
                </a:cubicBezTo>
                <a:cubicBezTo>
                  <a:pt x="19452" y="12814"/>
                  <a:pt x="19421" y="12740"/>
                  <a:pt x="19372" y="12626"/>
                </a:cubicBezTo>
                <a:cubicBezTo>
                  <a:pt x="19307" y="12733"/>
                  <a:pt x="19224" y="12865"/>
                  <a:pt x="19224" y="13022"/>
                </a:cubicBezTo>
                <a:cubicBezTo>
                  <a:pt x="19232" y="13063"/>
                  <a:pt x="19240" y="13105"/>
                  <a:pt x="19248" y="13146"/>
                </a:cubicBezTo>
                <a:cubicBezTo>
                  <a:pt x="19467" y="13169"/>
                  <a:pt x="19668" y="13132"/>
                  <a:pt x="19819" y="12948"/>
                </a:cubicBezTo>
                <a:cubicBezTo>
                  <a:pt x="19819" y="12923"/>
                  <a:pt x="19819" y="12915"/>
                  <a:pt x="19794" y="12923"/>
                </a:cubicBezTo>
              </a:path>
              <a:path w="3523" h="1366">
                <a:moveTo>
                  <a:pt x="17537" y="12477"/>
                </a:moveTo>
                <a:cubicBezTo>
                  <a:pt x="17816" y="12466"/>
                  <a:pt x="18083" y="12438"/>
                  <a:pt x="18355" y="12378"/>
                </a:cubicBezTo>
                <a:cubicBezTo>
                  <a:pt x="18426" y="12362"/>
                  <a:pt x="18444" y="12353"/>
                  <a:pt x="18504" y="1235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ang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45°, 45°, 9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136°, 24°, 20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75°, 50°, 55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45°, 76°, 59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606920" y="19731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2799" y="5482"/>
                </a:moveTo>
                <a:cubicBezTo>
                  <a:pt x="12807" y="5482"/>
                  <a:pt x="12816" y="5482"/>
                  <a:pt x="12824" y="548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0960" y="1704960"/>
            <a:ext cx="938160" cy="839880"/>
          </a:xfrm>
          <a:custGeom>
            <a:avLst/>
            <a:gdLst/>
            <a:ahLst/>
            <a:rect l="l" t="t" r="r" b="b"/>
            <a:pathLst>
              <a:path w="2606" h="2332">
                <a:moveTo>
                  <a:pt x="7962" y="6697"/>
                </a:moveTo>
                <a:cubicBezTo>
                  <a:pt x="8001" y="6720"/>
                  <a:pt x="8118" y="6791"/>
                  <a:pt x="8186" y="6821"/>
                </a:cubicBezTo>
                <a:cubicBezTo>
                  <a:pt x="8372" y="6903"/>
                  <a:pt x="8537" y="6921"/>
                  <a:pt x="8731" y="6970"/>
                </a:cubicBezTo>
                <a:cubicBezTo>
                  <a:pt x="8893" y="7011"/>
                  <a:pt x="9056" y="7076"/>
                  <a:pt x="9227" y="7069"/>
                </a:cubicBezTo>
                <a:cubicBezTo>
                  <a:pt x="9395" y="7063"/>
                  <a:pt x="9682" y="7021"/>
                  <a:pt x="9823" y="6921"/>
                </a:cubicBezTo>
                <a:cubicBezTo>
                  <a:pt x="9931" y="6844"/>
                  <a:pt x="10045" y="6761"/>
                  <a:pt x="10145" y="6672"/>
                </a:cubicBezTo>
                <a:cubicBezTo>
                  <a:pt x="10216" y="6610"/>
                  <a:pt x="10265" y="6515"/>
                  <a:pt x="10319" y="6424"/>
                </a:cubicBezTo>
                <a:cubicBezTo>
                  <a:pt x="10375" y="6329"/>
                  <a:pt x="10403" y="6261"/>
                  <a:pt x="10418" y="6152"/>
                </a:cubicBezTo>
                <a:cubicBezTo>
                  <a:pt x="10434" y="6040"/>
                  <a:pt x="10423" y="5936"/>
                  <a:pt x="10418" y="5829"/>
                </a:cubicBezTo>
                <a:cubicBezTo>
                  <a:pt x="10414" y="5735"/>
                  <a:pt x="10415" y="5646"/>
                  <a:pt x="10393" y="5556"/>
                </a:cubicBezTo>
                <a:cubicBezTo>
                  <a:pt x="10370" y="5464"/>
                  <a:pt x="10295" y="5364"/>
                  <a:pt x="10244" y="5283"/>
                </a:cubicBezTo>
                <a:cubicBezTo>
                  <a:pt x="10214" y="5235"/>
                  <a:pt x="10163" y="5143"/>
                  <a:pt x="10120" y="5110"/>
                </a:cubicBezTo>
                <a:cubicBezTo>
                  <a:pt x="10031" y="5041"/>
                  <a:pt x="9876" y="4984"/>
                  <a:pt x="9773" y="4936"/>
                </a:cubicBezTo>
                <a:cubicBezTo>
                  <a:pt x="9641" y="4874"/>
                  <a:pt x="9496" y="4811"/>
                  <a:pt x="9351" y="4787"/>
                </a:cubicBezTo>
                <a:cubicBezTo>
                  <a:pt x="9220" y="4765"/>
                  <a:pt x="9085" y="4780"/>
                  <a:pt x="8954" y="4762"/>
                </a:cubicBezTo>
                <a:cubicBezTo>
                  <a:pt x="8870" y="4751"/>
                  <a:pt x="8821" y="4743"/>
                  <a:pt x="8731" y="4762"/>
                </a:cubicBezTo>
                <a:cubicBezTo>
                  <a:pt x="8634" y="4783"/>
                  <a:pt x="8553" y="4807"/>
                  <a:pt x="8458" y="4837"/>
                </a:cubicBezTo>
                <a:cubicBezTo>
                  <a:pt x="8307" y="4884"/>
                  <a:pt x="8190" y="4967"/>
                  <a:pt x="8086" y="5085"/>
                </a:cubicBezTo>
                <a:cubicBezTo>
                  <a:pt x="7991" y="5193"/>
                  <a:pt x="7982" y="5235"/>
                  <a:pt x="7938" y="5358"/>
                </a:cubicBezTo>
                <a:cubicBezTo>
                  <a:pt x="7908" y="5442"/>
                  <a:pt x="7880" y="5522"/>
                  <a:pt x="7863" y="5606"/>
                </a:cubicBezTo>
                <a:cubicBezTo>
                  <a:pt x="7845" y="5695"/>
                  <a:pt x="7840" y="5787"/>
                  <a:pt x="7838" y="5879"/>
                </a:cubicBezTo>
                <a:cubicBezTo>
                  <a:pt x="7835" y="6032"/>
                  <a:pt x="7807" y="6233"/>
                  <a:pt x="7863" y="6375"/>
                </a:cubicBezTo>
                <a:cubicBezTo>
                  <a:pt x="7877" y="6410"/>
                  <a:pt x="7895" y="6465"/>
                  <a:pt x="7913" y="6499"/>
                </a:cubicBezTo>
                <a:cubicBezTo>
                  <a:pt x="7942" y="6554"/>
                  <a:pt x="7992" y="6601"/>
                  <a:pt x="8037" y="6648"/>
                </a:cubicBezTo>
                <a:cubicBezTo>
                  <a:pt x="8058" y="6670"/>
                  <a:pt x="8092" y="6705"/>
                  <a:pt x="8111" y="6722"/>
                </a:cubicBezTo>
                <a:cubicBezTo>
                  <a:pt x="8136" y="6722"/>
                  <a:pt x="8144" y="6722"/>
                  <a:pt x="8136" y="67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7240" y="2017800"/>
            <a:ext cx="1081080" cy="598320"/>
          </a:xfrm>
          <a:custGeom>
            <a:avLst/>
            <a:gdLst/>
            <a:ahLst/>
            <a:rect l="l" t="t" r="r" b="b"/>
            <a:pathLst>
              <a:path w="3003" h="1663">
                <a:moveTo>
                  <a:pt x="12030" y="5879"/>
                </a:moveTo>
                <a:cubicBezTo>
                  <a:pt x="11922" y="6129"/>
                  <a:pt x="11818" y="6354"/>
                  <a:pt x="11658" y="6573"/>
                </a:cubicBezTo>
                <a:cubicBezTo>
                  <a:pt x="11694" y="6261"/>
                  <a:pt x="11802" y="5965"/>
                  <a:pt x="12030" y="5730"/>
                </a:cubicBezTo>
                <a:cubicBezTo>
                  <a:pt x="12193" y="5614"/>
                  <a:pt x="12238" y="5572"/>
                  <a:pt x="12378" y="5606"/>
                </a:cubicBezTo>
                <a:cubicBezTo>
                  <a:pt x="12519" y="5845"/>
                  <a:pt x="12569" y="6010"/>
                  <a:pt x="12254" y="6127"/>
                </a:cubicBezTo>
                <a:cubicBezTo>
                  <a:pt x="12166" y="6160"/>
                  <a:pt x="11994" y="6092"/>
                  <a:pt x="11956" y="6127"/>
                </a:cubicBezTo>
                <a:cubicBezTo>
                  <a:pt x="11948" y="6152"/>
                  <a:pt x="11939" y="6176"/>
                  <a:pt x="11931" y="6201"/>
                </a:cubicBezTo>
                <a:cubicBezTo>
                  <a:pt x="12004" y="6376"/>
                  <a:pt x="12141" y="6543"/>
                  <a:pt x="12353" y="6573"/>
                </a:cubicBezTo>
                <a:cubicBezTo>
                  <a:pt x="12443" y="6586"/>
                  <a:pt x="12736" y="6432"/>
                  <a:pt x="12725" y="6325"/>
                </a:cubicBezTo>
                <a:cubicBezTo>
                  <a:pt x="12717" y="6253"/>
                  <a:pt x="12698" y="6336"/>
                  <a:pt x="12675" y="6325"/>
                </a:cubicBezTo>
                <a:cubicBezTo>
                  <a:pt x="12628" y="6482"/>
                  <a:pt x="12521" y="6643"/>
                  <a:pt x="12750" y="6672"/>
                </a:cubicBezTo>
                <a:cubicBezTo>
                  <a:pt x="12954" y="6698"/>
                  <a:pt x="13099" y="6515"/>
                  <a:pt x="13246" y="6400"/>
                </a:cubicBezTo>
                <a:cubicBezTo>
                  <a:pt x="13461" y="6233"/>
                  <a:pt x="13343" y="6383"/>
                  <a:pt x="13444" y="6400"/>
                </a:cubicBezTo>
                <a:cubicBezTo>
                  <a:pt x="13444" y="6383"/>
                  <a:pt x="13444" y="6367"/>
                  <a:pt x="13444" y="6350"/>
                </a:cubicBezTo>
                <a:cubicBezTo>
                  <a:pt x="13338" y="6317"/>
                  <a:pt x="13307" y="6307"/>
                  <a:pt x="13171" y="6424"/>
                </a:cubicBezTo>
                <a:cubicBezTo>
                  <a:pt x="13114" y="6474"/>
                  <a:pt x="12940" y="6618"/>
                  <a:pt x="13072" y="6672"/>
                </a:cubicBezTo>
                <a:cubicBezTo>
                  <a:pt x="13205" y="6727"/>
                  <a:pt x="13356" y="6566"/>
                  <a:pt x="13419" y="6474"/>
                </a:cubicBezTo>
                <a:cubicBezTo>
                  <a:pt x="13442" y="6451"/>
                  <a:pt x="13450" y="6447"/>
                  <a:pt x="13444" y="6424"/>
                </a:cubicBezTo>
                <a:cubicBezTo>
                  <a:pt x="13382" y="6588"/>
                  <a:pt x="13336" y="6774"/>
                  <a:pt x="13271" y="6945"/>
                </a:cubicBezTo>
                <a:cubicBezTo>
                  <a:pt x="13188" y="7163"/>
                  <a:pt x="13015" y="7372"/>
                  <a:pt x="12750" y="7243"/>
                </a:cubicBezTo>
                <a:cubicBezTo>
                  <a:pt x="12717" y="7210"/>
                  <a:pt x="12683" y="7177"/>
                  <a:pt x="12650" y="7144"/>
                </a:cubicBezTo>
                <a:cubicBezTo>
                  <a:pt x="12670" y="6912"/>
                  <a:pt x="12685" y="6800"/>
                  <a:pt x="12923" y="6722"/>
                </a:cubicBezTo>
                <a:cubicBezTo>
                  <a:pt x="13283" y="6603"/>
                  <a:pt x="13470" y="6472"/>
                  <a:pt x="13667" y="6127"/>
                </a:cubicBezTo>
                <a:cubicBezTo>
                  <a:pt x="13816" y="5865"/>
                  <a:pt x="13734" y="5976"/>
                  <a:pt x="13767" y="5804"/>
                </a:cubicBezTo>
                <a:cubicBezTo>
                  <a:pt x="13640" y="6013"/>
                  <a:pt x="13509" y="6208"/>
                  <a:pt x="13444" y="6449"/>
                </a:cubicBezTo>
                <a:cubicBezTo>
                  <a:pt x="13424" y="6524"/>
                  <a:pt x="13433" y="6571"/>
                  <a:pt x="13419" y="6648"/>
                </a:cubicBezTo>
                <a:cubicBezTo>
                  <a:pt x="13453" y="6577"/>
                  <a:pt x="13597" y="6204"/>
                  <a:pt x="13717" y="6226"/>
                </a:cubicBezTo>
                <a:cubicBezTo>
                  <a:pt x="13840" y="6248"/>
                  <a:pt x="13804" y="6491"/>
                  <a:pt x="13791" y="6598"/>
                </a:cubicBezTo>
                <a:cubicBezTo>
                  <a:pt x="13783" y="6623"/>
                  <a:pt x="13775" y="6647"/>
                  <a:pt x="13767" y="6672"/>
                </a:cubicBezTo>
                <a:cubicBezTo>
                  <a:pt x="14028" y="6569"/>
                  <a:pt x="14212" y="6410"/>
                  <a:pt x="14337" y="6152"/>
                </a:cubicBezTo>
                <a:cubicBezTo>
                  <a:pt x="14385" y="6052"/>
                  <a:pt x="14473" y="5848"/>
                  <a:pt x="14436" y="5953"/>
                </a:cubicBezTo>
                <a:cubicBezTo>
                  <a:pt x="14420" y="5978"/>
                  <a:pt x="14403" y="6003"/>
                  <a:pt x="14387" y="6028"/>
                </a:cubicBezTo>
                <a:cubicBezTo>
                  <a:pt x="14338" y="6147"/>
                  <a:pt x="14073" y="6538"/>
                  <a:pt x="14089" y="6648"/>
                </a:cubicBezTo>
                <a:cubicBezTo>
                  <a:pt x="14114" y="6814"/>
                  <a:pt x="14404" y="6684"/>
                  <a:pt x="14511" y="6648"/>
                </a:cubicBezTo>
                <a:cubicBezTo>
                  <a:pt x="14527" y="6640"/>
                  <a:pt x="14544" y="6631"/>
                  <a:pt x="14560" y="6623"/>
                </a:cubicBezTo>
              </a:path>
              <a:path w="3003" h="1663">
                <a:moveTo>
                  <a:pt x="14114" y="6226"/>
                </a:moveTo>
                <a:cubicBezTo>
                  <a:pt x="14296" y="6197"/>
                  <a:pt x="14478" y="6145"/>
                  <a:pt x="14660" y="612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48120" y="3106800"/>
            <a:ext cx="304920" cy="63360"/>
          </a:xfrm>
          <a:custGeom>
            <a:avLst/>
            <a:gdLst/>
            <a:ahLst/>
            <a:rect l="l" t="t" r="r" b="b"/>
            <a:pathLst>
              <a:path w="844" h="175">
                <a:moveTo>
                  <a:pt x="13469" y="8806"/>
                </a:moveTo>
                <a:cubicBezTo>
                  <a:pt x="13589" y="8778"/>
                  <a:pt x="14204" y="8547"/>
                  <a:pt x="14312" y="8632"/>
                </a:cubicBezTo>
                <a:cubicBezTo>
                  <a:pt x="14304" y="8640"/>
                  <a:pt x="14296" y="8649"/>
                  <a:pt x="14288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0160" y="3098880"/>
            <a:ext cx="1241640" cy="339480"/>
          </a:xfrm>
          <a:custGeom>
            <a:avLst/>
            <a:gdLst/>
            <a:ahLst/>
            <a:rect l="l" t="t" r="r" b="b"/>
            <a:pathLst>
              <a:path w="3449" h="944">
                <a:moveTo>
                  <a:pt x="12328" y="8781"/>
                </a:moveTo>
                <a:cubicBezTo>
                  <a:pt x="12259" y="8905"/>
                  <a:pt x="12160" y="9055"/>
                  <a:pt x="12105" y="9203"/>
                </a:cubicBezTo>
                <a:cubicBezTo>
                  <a:pt x="12060" y="9359"/>
                  <a:pt x="12040" y="9399"/>
                  <a:pt x="12080" y="9500"/>
                </a:cubicBezTo>
                <a:cubicBezTo>
                  <a:pt x="12305" y="9554"/>
                  <a:pt x="12506" y="9571"/>
                  <a:pt x="12626" y="9327"/>
                </a:cubicBezTo>
                <a:cubicBezTo>
                  <a:pt x="12712" y="9152"/>
                  <a:pt x="12716" y="8832"/>
                  <a:pt x="12576" y="8682"/>
                </a:cubicBezTo>
                <a:cubicBezTo>
                  <a:pt x="12543" y="8665"/>
                  <a:pt x="12510" y="8649"/>
                  <a:pt x="12477" y="8632"/>
                </a:cubicBezTo>
                <a:cubicBezTo>
                  <a:pt x="12355" y="8747"/>
                  <a:pt x="12117" y="9032"/>
                  <a:pt x="12353" y="9203"/>
                </a:cubicBezTo>
                <a:cubicBezTo>
                  <a:pt x="12611" y="9390"/>
                  <a:pt x="12914" y="9139"/>
                  <a:pt x="13072" y="8954"/>
                </a:cubicBezTo>
                <a:cubicBezTo>
                  <a:pt x="13171" y="8838"/>
                  <a:pt x="13182" y="8744"/>
                  <a:pt x="13221" y="8607"/>
                </a:cubicBezTo>
                <a:cubicBezTo>
                  <a:pt x="13124" y="8791"/>
                  <a:pt x="13014" y="8986"/>
                  <a:pt x="12923" y="9178"/>
                </a:cubicBezTo>
                <a:cubicBezTo>
                  <a:pt x="12783" y="9471"/>
                  <a:pt x="12747" y="9457"/>
                  <a:pt x="12948" y="9550"/>
                </a:cubicBezTo>
                <a:cubicBezTo>
                  <a:pt x="13072" y="9460"/>
                  <a:pt x="13119" y="9317"/>
                  <a:pt x="13196" y="9252"/>
                </a:cubicBezTo>
                <a:cubicBezTo>
                  <a:pt x="13338" y="9132"/>
                  <a:pt x="13489" y="9075"/>
                  <a:pt x="13618" y="8905"/>
                </a:cubicBezTo>
                <a:cubicBezTo>
                  <a:pt x="13695" y="8804"/>
                  <a:pt x="13743" y="8653"/>
                  <a:pt x="13643" y="8855"/>
                </a:cubicBezTo>
                <a:cubicBezTo>
                  <a:pt x="13583" y="8966"/>
                  <a:pt x="13282" y="9358"/>
                  <a:pt x="13395" y="9500"/>
                </a:cubicBezTo>
                <a:cubicBezTo>
                  <a:pt x="13500" y="9631"/>
                  <a:pt x="13821" y="9258"/>
                  <a:pt x="13866" y="9203"/>
                </a:cubicBezTo>
                <a:cubicBezTo>
                  <a:pt x="13891" y="9162"/>
                  <a:pt x="13915" y="9120"/>
                  <a:pt x="13940" y="9079"/>
                </a:cubicBezTo>
                <a:cubicBezTo>
                  <a:pt x="13960" y="9038"/>
                  <a:pt x="13969" y="9011"/>
                  <a:pt x="13965" y="9054"/>
                </a:cubicBezTo>
                <a:cubicBezTo>
                  <a:pt x="13939" y="9085"/>
                  <a:pt x="13647" y="9375"/>
                  <a:pt x="13816" y="9426"/>
                </a:cubicBezTo>
                <a:cubicBezTo>
                  <a:pt x="14005" y="9483"/>
                  <a:pt x="14158" y="9269"/>
                  <a:pt x="14263" y="9153"/>
                </a:cubicBezTo>
                <a:cubicBezTo>
                  <a:pt x="14271" y="9145"/>
                  <a:pt x="14280" y="9136"/>
                  <a:pt x="14288" y="9128"/>
                </a:cubicBezTo>
                <a:cubicBezTo>
                  <a:pt x="14242" y="9184"/>
                  <a:pt x="14014" y="9453"/>
                  <a:pt x="14139" y="9525"/>
                </a:cubicBezTo>
                <a:cubicBezTo>
                  <a:pt x="14351" y="9647"/>
                  <a:pt x="14574" y="9255"/>
                  <a:pt x="14684" y="9153"/>
                </a:cubicBezTo>
                <a:cubicBezTo>
                  <a:pt x="14812" y="9034"/>
                  <a:pt x="14711" y="9340"/>
                  <a:pt x="14684" y="9401"/>
                </a:cubicBezTo>
                <a:cubicBezTo>
                  <a:pt x="14634" y="9514"/>
                  <a:pt x="14545" y="9488"/>
                  <a:pt x="14461" y="9426"/>
                </a:cubicBezTo>
                <a:cubicBezTo>
                  <a:pt x="14469" y="9426"/>
                  <a:pt x="14478" y="9426"/>
                  <a:pt x="14486" y="9426"/>
                </a:cubicBezTo>
                <a:cubicBezTo>
                  <a:pt x="14625" y="9474"/>
                  <a:pt x="14686" y="9494"/>
                  <a:pt x="14858" y="9401"/>
                </a:cubicBezTo>
                <a:cubicBezTo>
                  <a:pt x="15075" y="9284"/>
                  <a:pt x="15162" y="9150"/>
                  <a:pt x="15280" y="8954"/>
                </a:cubicBezTo>
                <a:cubicBezTo>
                  <a:pt x="15187" y="9014"/>
                  <a:pt x="14851" y="9241"/>
                  <a:pt x="15131" y="9327"/>
                </a:cubicBezTo>
                <a:cubicBezTo>
                  <a:pt x="15317" y="9327"/>
                  <a:pt x="15387" y="9322"/>
                  <a:pt x="15503" y="92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32160" y="4303800"/>
            <a:ext cx="1197000" cy="312480"/>
          </a:xfrm>
          <a:custGeom>
            <a:avLst/>
            <a:gdLst/>
            <a:ahLst/>
            <a:rect l="l" t="t" r="r" b="b"/>
            <a:pathLst>
              <a:path w="3325" h="869">
                <a:moveTo>
                  <a:pt x="12353" y="12526"/>
                </a:moveTo>
                <a:cubicBezTo>
                  <a:pt x="12323" y="12414"/>
                  <a:pt x="12329" y="12331"/>
                  <a:pt x="12204" y="12303"/>
                </a:cubicBezTo>
                <a:cubicBezTo>
                  <a:pt x="12012" y="12259"/>
                  <a:pt x="11790" y="12500"/>
                  <a:pt x="11757" y="12675"/>
                </a:cubicBezTo>
                <a:cubicBezTo>
                  <a:pt x="11765" y="12708"/>
                  <a:pt x="11774" y="12741"/>
                  <a:pt x="11782" y="12774"/>
                </a:cubicBezTo>
                <a:cubicBezTo>
                  <a:pt x="11922" y="12839"/>
                  <a:pt x="12033" y="12833"/>
                  <a:pt x="12179" y="12750"/>
                </a:cubicBezTo>
                <a:cubicBezTo>
                  <a:pt x="12331" y="12664"/>
                  <a:pt x="12334" y="12574"/>
                  <a:pt x="12353" y="12452"/>
                </a:cubicBezTo>
                <a:cubicBezTo>
                  <a:pt x="12310" y="12548"/>
                  <a:pt x="12206" y="12740"/>
                  <a:pt x="12378" y="12799"/>
                </a:cubicBezTo>
                <a:cubicBezTo>
                  <a:pt x="12568" y="12864"/>
                  <a:pt x="12715" y="12653"/>
                  <a:pt x="12799" y="12526"/>
                </a:cubicBezTo>
                <a:cubicBezTo>
                  <a:pt x="12837" y="12468"/>
                  <a:pt x="12899" y="12309"/>
                  <a:pt x="12998" y="12328"/>
                </a:cubicBezTo>
                <a:cubicBezTo>
                  <a:pt x="13041" y="12350"/>
                  <a:pt x="13053" y="12354"/>
                  <a:pt x="13072" y="12378"/>
                </a:cubicBezTo>
                <a:cubicBezTo>
                  <a:pt x="13039" y="12359"/>
                  <a:pt x="13039" y="12261"/>
                  <a:pt x="12948" y="12353"/>
                </a:cubicBezTo>
                <a:cubicBezTo>
                  <a:pt x="12860" y="12441"/>
                  <a:pt x="12833" y="12586"/>
                  <a:pt x="12799" y="12700"/>
                </a:cubicBezTo>
                <a:cubicBezTo>
                  <a:pt x="12927" y="12746"/>
                  <a:pt x="13004" y="12781"/>
                  <a:pt x="13146" y="12700"/>
                </a:cubicBezTo>
                <a:cubicBezTo>
                  <a:pt x="13314" y="12603"/>
                  <a:pt x="13319" y="12480"/>
                  <a:pt x="13395" y="12328"/>
                </a:cubicBezTo>
                <a:cubicBezTo>
                  <a:pt x="13395" y="12336"/>
                  <a:pt x="13395" y="12345"/>
                  <a:pt x="13395" y="12353"/>
                </a:cubicBezTo>
                <a:cubicBezTo>
                  <a:pt x="13390" y="12393"/>
                  <a:pt x="13334" y="12603"/>
                  <a:pt x="13370" y="12626"/>
                </a:cubicBezTo>
                <a:cubicBezTo>
                  <a:pt x="13515" y="12721"/>
                  <a:pt x="13643" y="12494"/>
                  <a:pt x="13692" y="12402"/>
                </a:cubicBezTo>
                <a:cubicBezTo>
                  <a:pt x="13712" y="12362"/>
                  <a:pt x="13721" y="12356"/>
                  <a:pt x="13717" y="12328"/>
                </a:cubicBezTo>
                <a:cubicBezTo>
                  <a:pt x="13636" y="12436"/>
                  <a:pt x="13569" y="12483"/>
                  <a:pt x="13643" y="12650"/>
                </a:cubicBezTo>
                <a:cubicBezTo>
                  <a:pt x="13659" y="12667"/>
                  <a:pt x="13676" y="12683"/>
                  <a:pt x="13692" y="12700"/>
                </a:cubicBezTo>
                <a:cubicBezTo>
                  <a:pt x="13899" y="12674"/>
                  <a:pt x="13955" y="12598"/>
                  <a:pt x="14039" y="12402"/>
                </a:cubicBezTo>
                <a:cubicBezTo>
                  <a:pt x="14067" y="12337"/>
                  <a:pt x="14061" y="12300"/>
                  <a:pt x="14064" y="12229"/>
                </a:cubicBezTo>
                <a:cubicBezTo>
                  <a:pt x="14067" y="12142"/>
                  <a:pt x="14092" y="12064"/>
                  <a:pt x="14114" y="11981"/>
                </a:cubicBezTo>
                <a:cubicBezTo>
                  <a:pt x="14030" y="12212"/>
                  <a:pt x="13955" y="12430"/>
                  <a:pt x="14015" y="12675"/>
                </a:cubicBezTo>
                <a:cubicBezTo>
                  <a:pt x="14048" y="12810"/>
                  <a:pt x="14161" y="12823"/>
                  <a:pt x="14288" y="12774"/>
                </a:cubicBezTo>
                <a:cubicBezTo>
                  <a:pt x="14449" y="12712"/>
                  <a:pt x="14649" y="12508"/>
                  <a:pt x="14660" y="12328"/>
                </a:cubicBezTo>
                <a:cubicBezTo>
                  <a:pt x="14660" y="12293"/>
                  <a:pt x="14655" y="12276"/>
                  <a:pt x="14635" y="12254"/>
                </a:cubicBezTo>
                <a:cubicBezTo>
                  <a:pt x="14550" y="12318"/>
                  <a:pt x="14419" y="12363"/>
                  <a:pt x="14461" y="12526"/>
                </a:cubicBezTo>
                <a:cubicBezTo>
                  <a:pt x="14517" y="12743"/>
                  <a:pt x="14855" y="12624"/>
                  <a:pt x="14982" y="12576"/>
                </a:cubicBezTo>
                <a:cubicBezTo>
                  <a:pt x="15174" y="12503"/>
                  <a:pt x="15051" y="12526"/>
                  <a:pt x="15032" y="12427"/>
                </a:cubicBezTo>
              </a:path>
              <a:path w="3325" h="869">
                <a:moveTo>
                  <a:pt x="13717" y="12055"/>
                </a:moveTo>
                <a:cubicBezTo>
                  <a:pt x="13926" y="12055"/>
                  <a:pt x="14130" y="12033"/>
                  <a:pt x="14337" y="12005"/>
                </a:cubicBezTo>
                <a:cubicBezTo>
                  <a:pt x="14430" y="11992"/>
                  <a:pt x="14497" y="11955"/>
                  <a:pt x="14560" y="119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7240" y="5348160"/>
            <a:ext cx="1312920" cy="385920"/>
          </a:xfrm>
          <a:custGeom>
            <a:avLst/>
            <a:gdLst/>
            <a:ahLst/>
            <a:rect l="l" t="t" r="r" b="b"/>
            <a:pathLst>
              <a:path w="3647" h="1068">
                <a:moveTo>
                  <a:pt x="12254" y="15429"/>
                </a:moveTo>
                <a:cubicBezTo>
                  <a:pt x="12265" y="15440"/>
                  <a:pt x="12306" y="15529"/>
                  <a:pt x="12278" y="15404"/>
                </a:cubicBezTo>
                <a:cubicBezTo>
                  <a:pt x="12263" y="15338"/>
                  <a:pt x="12275" y="15362"/>
                  <a:pt x="12204" y="15304"/>
                </a:cubicBezTo>
                <a:cubicBezTo>
                  <a:pt x="12034" y="15167"/>
                  <a:pt x="11886" y="15349"/>
                  <a:pt x="11782" y="15478"/>
                </a:cubicBezTo>
                <a:cubicBezTo>
                  <a:pt x="11691" y="15592"/>
                  <a:pt x="11560" y="15853"/>
                  <a:pt x="11782" y="15925"/>
                </a:cubicBezTo>
                <a:cubicBezTo>
                  <a:pt x="11943" y="15977"/>
                  <a:pt x="12092" y="15793"/>
                  <a:pt x="12154" y="15677"/>
                </a:cubicBezTo>
                <a:cubicBezTo>
                  <a:pt x="12196" y="15598"/>
                  <a:pt x="12223" y="15505"/>
                  <a:pt x="12254" y="15429"/>
                </a:cubicBezTo>
                <a:cubicBezTo>
                  <a:pt x="12248" y="15490"/>
                  <a:pt x="12234" y="15516"/>
                  <a:pt x="12229" y="15577"/>
                </a:cubicBezTo>
                <a:cubicBezTo>
                  <a:pt x="12221" y="15686"/>
                  <a:pt x="12238" y="15892"/>
                  <a:pt x="12402" y="15875"/>
                </a:cubicBezTo>
                <a:cubicBezTo>
                  <a:pt x="12609" y="15853"/>
                  <a:pt x="12750" y="15635"/>
                  <a:pt x="12849" y="15478"/>
                </a:cubicBezTo>
                <a:cubicBezTo>
                  <a:pt x="12877" y="15434"/>
                  <a:pt x="12895" y="15304"/>
                  <a:pt x="12973" y="15329"/>
                </a:cubicBezTo>
                <a:cubicBezTo>
                  <a:pt x="12983" y="15332"/>
                  <a:pt x="13071" y="15360"/>
                  <a:pt x="12998" y="15329"/>
                </a:cubicBezTo>
                <a:cubicBezTo>
                  <a:pt x="12891" y="15283"/>
                  <a:pt x="12804" y="15463"/>
                  <a:pt x="12774" y="15528"/>
                </a:cubicBezTo>
                <a:cubicBezTo>
                  <a:pt x="12731" y="15660"/>
                  <a:pt x="12710" y="15692"/>
                  <a:pt x="12750" y="15776"/>
                </a:cubicBezTo>
                <a:cubicBezTo>
                  <a:pt x="12940" y="15830"/>
                  <a:pt x="13021" y="15827"/>
                  <a:pt x="13171" y="15677"/>
                </a:cubicBezTo>
                <a:cubicBezTo>
                  <a:pt x="13255" y="15593"/>
                  <a:pt x="13319" y="15505"/>
                  <a:pt x="13370" y="15404"/>
                </a:cubicBezTo>
                <a:cubicBezTo>
                  <a:pt x="13338" y="15482"/>
                  <a:pt x="13272" y="15551"/>
                  <a:pt x="13295" y="15652"/>
                </a:cubicBezTo>
                <a:cubicBezTo>
                  <a:pt x="13328" y="15798"/>
                  <a:pt x="13448" y="15766"/>
                  <a:pt x="13568" y="15701"/>
                </a:cubicBezTo>
                <a:cubicBezTo>
                  <a:pt x="13683" y="15639"/>
                  <a:pt x="13747" y="15532"/>
                  <a:pt x="13791" y="15429"/>
                </a:cubicBezTo>
                <a:cubicBezTo>
                  <a:pt x="13791" y="15421"/>
                  <a:pt x="13791" y="15412"/>
                  <a:pt x="13791" y="15404"/>
                </a:cubicBezTo>
                <a:cubicBezTo>
                  <a:pt x="13741" y="15468"/>
                  <a:pt x="13628" y="15562"/>
                  <a:pt x="13667" y="15677"/>
                </a:cubicBezTo>
                <a:cubicBezTo>
                  <a:pt x="13684" y="15693"/>
                  <a:pt x="13700" y="15710"/>
                  <a:pt x="13717" y="15726"/>
                </a:cubicBezTo>
                <a:cubicBezTo>
                  <a:pt x="13908" y="15786"/>
                  <a:pt x="13981" y="15738"/>
                  <a:pt x="14114" y="15577"/>
                </a:cubicBezTo>
                <a:cubicBezTo>
                  <a:pt x="14227" y="15440"/>
                  <a:pt x="14294" y="15257"/>
                  <a:pt x="14312" y="15081"/>
                </a:cubicBezTo>
                <a:cubicBezTo>
                  <a:pt x="14312" y="15040"/>
                  <a:pt x="14312" y="14998"/>
                  <a:pt x="14312" y="14957"/>
                </a:cubicBezTo>
                <a:cubicBezTo>
                  <a:pt x="14274" y="15046"/>
                  <a:pt x="14260" y="15037"/>
                  <a:pt x="14238" y="15131"/>
                </a:cubicBezTo>
                <a:cubicBezTo>
                  <a:pt x="14215" y="15228"/>
                  <a:pt x="14104" y="15593"/>
                  <a:pt x="14188" y="15677"/>
                </a:cubicBezTo>
                <a:cubicBezTo>
                  <a:pt x="14268" y="15757"/>
                  <a:pt x="14437" y="15756"/>
                  <a:pt x="14536" y="15726"/>
                </a:cubicBezTo>
                <a:cubicBezTo>
                  <a:pt x="14674" y="15684"/>
                  <a:pt x="14763" y="15572"/>
                  <a:pt x="14808" y="15453"/>
                </a:cubicBezTo>
                <a:cubicBezTo>
                  <a:pt x="14860" y="15316"/>
                  <a:pt x="14833" y="15379"/>
                  <a:pt x="14759" y="15304"/>
                </a:cubicBezTo>
                <a:cubicBezTo>
                  <a:pt x="14669" y="15386"/>
                  <a:pt x="14565" y="15490"/>
                  <a:pt x="14635" y="15627"/>
                </a:cubicBezTo>
                <a:cubicBezTo>
                  <a:pt x="14694" y="15741"/>
                  <a:pt x="14901" y="15750"/>
                  <a:pt x="15007" y="15726"/>
                </a:cubicBezTo>
                <a:cubicBezTo>
                  <a:pt x="15101" y="15705"/>
                  <a:pt x="15284" y="15631"/>
                  <a:pt x="15304" y="15528"/>
                </a:cubicBezTo>
                <a:cubicBezTo>
                  <a:pt x="15304" y="15476"/>
                  <a:pt x="15303" y="15458"/>
                  <a:pt x="15280" y="15429"/>
                </a:cubicBezTo>
              </a:path>
              <a:path w="3647" h="1068">
                <a:moveTo>
                  <a:pt x="13990" y="15106"/>
                </a:moveTo>
                <a:cubicBezTo>
                  <a:pt x="14049" y="15061"/>
                  <a:pt x="14167" y="15028"/>
                  <a:pt x="14238" y="15007"/>
                </a:cubicBezTo>
                <a:cubicBezTo>
                  <a:pt x="14417" y="14954"/>
                  <a:pt x="14606" y="14903"/>
                  <a:pt x="14784" y="148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82800" y="3027240"/>
            <a:ext cx="1098360" cy="615960"/>
          </a:xfrm>
          <a:custGeom>
            <a:avLst/>
            <a:gdLst/>
            <a:ahLst/>
            <a:rect l="l" t="t" r="r" b="b"/>
            <a:pathLst>
              <a:path w="3051" h="1712">
                <a:moveTo>
                  <a:pt x="3225" y="10071"/>
                </a:moveTo>
                <a:cubicBezTo>
                  <a:pt x="3334" y="10096"/>
                  <a:pt x="3456" y="10114"/>
                  <a:pt x="3572" y="10120"/>
                </a:cubicBezTo>
                <a:cubicBezTo>
                  <a:pt x="3911" y="10138"/>
                  <a:pt x="4252" y="10113"/>
                  <a:pt x="4589" y="10096"/>
                </a:cubicBezTo>
                <a:cubicBezTo>
                  <a:pt x="4754" y="10088"/>
                  <a:pt x="4897" y="10083"/>
                  <a:pt x="5060" y="10046"/>
                </a:cubicBezTo>
                <a:cubicBezTo>
                  <a:pt x="5246" y="10004"/>
                  <a:pt x="5357" y="9889"/>
                  <a:pt x="5482" y="9748"/>
                </a:cubicBezTo>
                <a:cubicBezTo>
                  <a:pt x="5599" y="9615"/>
                  <a:pt x="5664" y="9464"/>
                  <a:pt x="5730" y="9302"/>
                </a:cubicBezTo>
                <a:cubicBezTo>
                  <a:pt x="5787" y="9163"/>
                  <a:pt x="5801" y="9026"/>
                  <a:pt x="5755" y="8880"/>
                </a:cubicBezTo>
                <a:cubicBezTo>
                  <a:pt x="5700" y="8705"/>
                  <a:pt x="5621" y="8571"/>
                  <a:pt x="5457" y="8483"/>
                </a:cubicBezTo>
                <a:cubicBezTo>
                  <a:pt x="5225" y="8359"/>
                  <a:pt x="4868" y="8392"/>
                  <a:pt x="4614" y="8409"/>
                </a:cubicBezTo>
                <a:cubicBezTo>
                  <a:pt x="4332" y="8428"/>
                  <a:pt x="4065" y="8476"/>
                  <a:pt x="3795" y="8558"/>
                </a:cubicBezTo>
                <a:cubicBezTo>
                  <a:pt x="3587" y="8621"/>
                  <a:pt x="3377" y="8678"/>
                  <a:pt x="3175" y="8756"/>
                </a:cubicBezTo>
                <a:cubicBezTo>
                  <a:pt x="3040" y="8808"/>
                  <a:pt x="2872" y="8919"/>
                  <a:pt x="2803" y="9054"/>
                </a:cubicBezTo>
                <a:cubicBezTo>
                  <a:pt x="2703" y="9250"/>
                  <a:pt x="2687" y="9501"/>
                  <a:pt x="2828" y="9674"/>
                </a:cubicBezTo>
                <a:cubicBezTo>
                  <a:pt x="2975" y="9855"/>
                  <a:pt x="3203" y="9929"/>
                  <a:pt x="3423" y="9971"/>
                </a:cubicBezTo>
                <a:cubicBezTo>
                  <a:pt x="3565" y="9998"/>
                  <a:pt x="3702" y="9996"/>
                  <a:pt x="3845" y="999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iangle Classification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Compare and classify triangles by sides and angle meas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205160" y="4429080"/>
            <a:ext cx="3162600" cy="571680"/>
          </a:xfrm>
          <a:custGeom>
            <a:avLst/>
            <a:gdLst/>
            <a:ahLst/>
            <a:rect l="l" t="t" r="r" b="b"/>
            <a:pathLst>
              <a:path w="8782" h="1589">
                <a:moveTo>
                  <a:pt x="16991" y="12526"/>
                </a:moveTo>
                <a:cubicBezTo>
                  <a:pt x="17143" y="12526"/>
                  <a:pt x="17287" y="12529"/>
                  <a:pt x="17438" y="12502"/>
                </a:cubicBezTo>
                <a:cubicBezTo>
                  <a:pt x="17635" y="12467"/>
                  <a:pt x="17836" y="12404"/>
                  <a:pt x="18033" y="12378"/>
                </a:cubicBezTo>
                <a:cubicBezTo>
                  <a:pt x="18175" y="12359"/>
                  <a:pt x="18314" y="12360"/>
                  <a:pt x="18455" y="12328"/>
                </a:cubicBezTo>
                <a:cubicBezTo>
                  <a:pt x="18581" y="12300"/>
                  <a:pt x="18698" y="12303"/>
                  <a:pt x="18827" y="12303"/>
                </a:cubicBezTo>
                <a:cubicBezTo>
                  <a:pt x="18976" y="12303"/>
                  <a:pt x="19127" y="12308"/>
                  <a:pt x="19273" y="12328"/>
                </a:cubicBezTo>
                <a:cubicBezTo>
                  <a:pt x="19440" y="12350"/>
                  <a:pt x="19602" y="12362"/>
                  <a:pt x="19769" y="12378"/>
                </a:cubicBezTo>
                <a:cubicBezTo>
                  <a:pt x="19997" y="12399"/>
                  <a:pt x="20242" y="12404"/>
                  <a:pt x="20464" y="12452"/>
                </a:cubicBezTo>
                <a:cubicBezTo>
                  <a:pt x="20456" y="12452"/>
                  <a:pt x="20447" y="12452"/>
                  <a:pt x="20439" y="12452"/>
                </a:cubicBezTo>
              </a:path>
              <a:path w="8782" h="1589">
                <a:moveTo>
                  <a:pt x="11683" y="13717"/>
                </a:moveTo>
                <a:cubicBezTo>
                  <a:pt x="11781" y="13710"/>
                  <a:pt x="11860" y="13714"/>
                  <a:pt x="11956" y="13717"/>
                </a:cubicBezTo>
                <a:cubicBezTo>
                  <a:pt x="12256" y="13727"/>
                  <a:pt x="12553" y="13709"/>
                  <a:pt x="12849" y="13742"/>
                </a:cubicBezTo>
                <a:cubicBezTo>
                  <a:pt x="13006" y="13760"/>
                  <a:pt x="13162" y="13765"/>
                  <a:pt x="13320" y="13791"/>
                </a:cubicBezTo>
                <a:cubicBezTo>
                  <a:pt x="13478" y="13817"/>
                  <a:pt x="13633" y="13822"/>
                  <a:pt x="13791" y="13841"/>
                </a:cubicBezTo>
                <a:cubicBezTo>
                  <a:pt x="13963" y="13862"/>
                  <a:pt x="14113" y="13891"/>
                  <a:pt x="14288" y="13891"/>
                </a:cubicBezTo>
                <a:cubicBezTo>
                  <a:pt x="14464" y="13891"/>
                  <a:pt x="14635" y="13874"/>
                  <a:pt x="14808" y="13866"/>
                </a:cubicBezTo>
                <a:cubicBezTo>
                  <a:pt x="15048" y="13855"/>
                  <a:pt x="15290" y="13846"/>
                  <a:pt x="15528" y="13841"/>
                </a:cubicBezTo>
                <a:cubicBezTo>
                  <a:pt x="15793" y="13835"/>
                  <a:pt x="16057" y="13821"/>
                  <a:pt x="16321" y="13816"/>
                </a:cubicBezTo>
                <a:cubicBezTo>
                  <a:pt x="16578" y="13811"/>
                  <a:pt x="16835" y="13821"/>
                  <a:pt x="17090" y="13791"/>
                </a:cubicBezTo>
                <a:cubicBezTo>
                  <a:pt x="17263" y="13771"/>
                  <a:pt x="17438" y="13786"/>
                  <a:pt x="17611" y="13767"/>
                </a:cubicBezTo>
                <a:cubicBezTo>
                  <a:pt x="17832" y="13742"/>
                  <a:pt x="18059" y="13721"/>
                  <a:pt x="18281" y="13717"/>
                </a:cubicBezTo>
                <a:cubicBezTo>
                  <a:pt x="18546" y="13712"/>
                  <a:pt x="18814" y="13703"/>
                  <a:pt x="19075" y="13692"/>
                </a:cubicBezTo>
                <a:cubicBezTo>
                  <a:pt x="19182" y="13688"/>
                  <a:pt x="19241" y="13692"/>
                  <a:pt x="19348" y="1369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920" y="2098800"/>
            <a:ext cx="2616120" cy="455400"/>
          </a:xfrm>
          <a:custGeom>
            <a:avLst/>
            <a:gdLst/>
            <a:ahLst/>
            <a:rect l="l" t="t" r="r" b="b"/>
            <a:pathLst>
              <a:path w="7268" h="1266">
                <a:moveTo>
                  <a:pt x="670" y="5953"/>
                </a:moveTo>
                <a:cubicBezTo>
                  <a:pt x="710" y="6074"/>
                  <a:pt x="781" y="6187"/>
                  <a:pt x="843" y="6300"/>
                </a:cubicBezTo>
                <a:cubicBezTo>
                  <a:pt x="880" y="6374"/>
                  <a:pt x="897" y="6378"/>
                  <a:pt x="893" y="6424"/>
                </a:cubicBezTo>
              </a:path>
              <a:path w="7268" h="1266">
                <a:moveTo>
                  <a:pt x="595" y="6375"/>
                </a:moveTo>
                <a:cubicBezTo>
                  <a:pt x="587" y="6367"/>
                  <a:pt x="579" y="6358"/>
                  <a:pt x="571" y="6350"/>
                </a:cubicBezTo>
                <a:cubicBezTo>
                  <a:pt x="667" y="6254"/>
                  <a:pt x="750" y="6150"/>
                  <a:pt x="843" y="6052"/>
                </a:cubicBezTo>
                <a:cubicBezTo>
                  <a:pt x="899" y="5993"/>
                  <a:pt x="903" y="6070"/>
                  <a:pt x="918" y="5978"/>
                </a:cubicBezTo>
              </a:path>
              <a:path w="7268" h="1266">
                <a:moveTo>
                  <a:pt x="868" y="5829"/>
                </a:moveTo>
                <a:cubicBezTo>
                  <a:pt x="823" y="5919"/>
                  <a:pt x="842" y="6045"/>
                  <a:pt x="819" y="6152"/>
                </a:cubicBezTo>
                <a:cubicBezTo>
                  <a:pt x="812" y="6186"/>
                  <a:pt x="807" y="6298"/>
                  <a:pt x="769" y="6300"/>
                </a:cubicBezTo>
                <a:cubicBezTo>
                  <a:pt x="744" y="6300"/>
                  <a:pt x="720" y="6300"/>
                  <a:pt x="695" y="6300"/>
                </a:cubicBezTo>
              </a:path>
              <a:path w="7268" h="1266">
                <a:moveTo>
                  <a:pt x="546" y="6251"/>
                </a:moveTo>
                <a:cubicBezTo>
                  <a:pt x="664" y="6234"/>
                  <a:pt x="773" y="6205"/>
                  <a:pt x="893" y="6201"/>
                </a:cubicBezTo>
                <a:cubicBezTo>
                  <a:pt x="934" y="6200"/>
                  <a:pt x="976" y="6201"/>
                  <a:pt x="1017" y="6201"/>
                </a:cubicBezTo>
              </a:path>
              <a:path w="7268" h="1266">
                <a:moveTo>
                  <a:pt x="1811" y="6846"/>
                </a:moveTo>
                <a:cubicBezTo>
                  <a:pt x="1893" y="6846"/>
                  <a:pt x="1959" y="6859"/>
                  <a:pt x="2034" y="6871"/>
                </a:cubicBezTo>
                <a:cubicBezTo>
                  <a:pt x="2114" y="6884"/>
                  <a:pt x="2213" y="6886"/>
                  <a:pt x="2282" y="6896"/>
                </a:cubicBezTo>
                <a:cubicBezTo>
                  <a:pt x="2367" y="6909"/>
                  <a:pt x="2436" y="6885"/>
                  <a:pt x="2505" y="6871"/>
                </a:cubicBezTo>
                <a:cubicBezTo>
                  <a:pt x="2608" y="6850"/>
                  <a:pt x="2734" y="6865"/>
                  <a:pt x="2828" y="6846"/>
                </a:cubicBezTo>
                <a:cubicBezTo>
                  <a:pt x="2897" y="6832"/>
                  <a:pt x="2981" y="6831"/>
                  <a:pt x="3051" y="6821"/>
                </a:cubicBezTo>
                <a:cubicBezTo>
                  <a:pt x="3111" y="6812"/>
                  <a:pt x="3169" y="6805"/>
                  <a:pt x="3225" y="6796"/>
                </a:cubicBezTo>
                <a:cubicBezTo>
                  <a:pt x="3297" y="6785"/>
                  <a:pt x="3376" y="6776"/>
                  <a:pt x="3448" y="6772"/>
                </a:cubicBezTo>
                <a:cubicBezTo>
                  <a:pt x="3510" y="6769"/>
                  <a:pt x="3579" y="6758"/>
                  <a:pt x="3646" y="6747"/>
                </a:cubicBezTo>
                <a:cubicBezTo>
                  <a:pt x="3716" y="6736"/>
                  <a:pt x="3773" y="6722"/>
                  <a:pt x="3845" y="6722"/>
                </a:cubicBezTo>
                <a:cubicBezTo>
                  <a:pt x="3837" y="6722"/>
                  <a:pt x="3828" y="6722"/>
                  <a:pt x="3820" y="6722"/>
                </a:cubicBezTo>
                <a:cubicBezTo>
                  <a:pt x="3756" y="6698"/>
                  <a:pt x="3715" y="6697"/>
                  <a:pt x="3646" y="6697"/>
                </a:cubicBezTo>
                <a:cubicBezTo>
                  <a:pt x="3576" y="6697"/>
                  <a:pt x="3535" y="6692"/>
                  <a:pt x="3473" y="6697"/>
                </a:cubicBezTo>
                <a:cubicBezTo>
                  <a:pt x="3369" y="6706"/>
                  <a:pt x="3277" y="6732"/>
                  <a:pt x="3175" y="6747"/>
                </a:cubicBezTo>
                <a:cubicBezTo>
                  <a:pt x="3067" y="6763"/>
                  <a:pt x="2961" y="6806"/>
                  <a:pt x="2853" y="6821"/>
                </a:cubicBezTo>
                <a:cubicBezTo>
                  <a:pt x="2753" y="6835"/>
                  <a:pt x="2658" y="6846"/>
                  <a:pt x="2555" y="6846"/>
                </a:cubicBezTo>
                <a:cubicBezTo>
                  <a:pt x="2396" y="6846"/>
                  <a:pt x="2239" y="6858"/>
                  <a:pt x="2084" y="6821"/>
                </a:cubicBezTo>
                <a:cubicBezTo>
                  <a:pt x="1985" y="6798"/>
                  <a:pt x="1883" y="6771"/>
                  <a:pt x="1786" y="6747"/>
                </a:cubicBezTo>
                <a:cubicBezTo>
                  <a:pt x="1761" y="6747"/>
                  <a:pt x="1753" y="6747"/>
                  <a:pt x="1786" y="6747"/>
                </a:cubicBezTo>
              </a:path>
              <a:path w="7268" h="1266">
                <a:moveTo>
                  <a:pt x="4316" y="6896"/>
                </a:moveTo>
                <a:cubicBezTo>
                  <a:pt x="4412" y="6940"/>
                  <a:pt x="4468" y="7029"/>
                  <a:pt x="4564" y="7069"/>
                </a:cubicBezTo>
                <a:cubicBezTo>
                  <a:pt x="4682" y="7118"/>
                  <a:pt x="4812" y="7061"/>
                  <a:pt x="4911" y="6995"/>
                </a:cubicBezTo>
                <a:cubicBezTo>
                  <a:pt x="4982" y="6948"/>
                  <a:pt x="5084" y="6878"/>
                  <a:pt x="5135" y="6846"/>
                </a:cubicBezTo>
                <a:cubicBezTo>
                  <a:pt x="5176" y="6892"/>
                  <a:pt x="5240" y="6985"/>
                  <a:pt x="5333" y="6970"/>
                </a:cubicBezTo>
                <a:cubicBezTo>
                  <a:pt x="5450" y="6951"/>
                  <a:pt x="5536" y="6860"/>
                  <a:pt x="5606" y="6796"/>
                </a:cubicBezTo>
                <a:cubicBezTo>
                  <a:pt x="5706" y="6884"/>
                  <a:pt x="5751" y="6953"/>
                  <a:pt x="5904" y="6921"/>
                </a:cubicBezTo>
                <a:cubicBezTo>
                  <a:pt x="5952" y="6911"/>
                  <a:pt x="6048" y="6865"/>
                  <a:pt x="6102" y="6846"/>
                </a:cubicBezTo>
                <a:cubicBezTo>
                  <a:pt x="6142" y="6913"/>
                  <a:pt x="6163" y="6976"/>
                  <a:pt x="6276" y="6945"/>
                </a:cubicBezTo>
                <a:cubicBezTo>
                  <a:pt x="6330" y="6930"/>
                  <a:pt x="6421" y="6864"/>
                  <a:pt x="6449" y="6846"/>
                </a:cubicBezTo>
                <a:cubicBezTo>
                  <a:pt x="6490" y="6919"/>
                  <a:pt x="6521" y="6999"/>
                  <a:pt x="6623" y="7020"/>
                </a:cubicBezTo>
                <a:cubicBezTo>
                  <a:pt x="6758" y="7048"/>
                  <a:pt x="6861" y="6914"/>
                  <a:pt x="6970" y="6945"/>
                </a:cubicBezTo>
                <a:cubicBezTo>
                  <a:pt x="7037" y="6964"/>
                  <a:pt x="7063" y="7051"/>
                  <a:pt x="7144" y="7020"/>
                </a:cubicBezTo>
                <a:cubicBezTo>
                  <a:pt x="7246" y="6981"/>
                  <a:pt x="7173" y="6948"/>
                  <a:pt x="7243" y="6970"/>
                </a:cubicBezTo>
                <a:cubicBezTo>
                  <a:pt x="7439" y="7031"/>
                  <a:pt x="7494" y="7032"/>
                  <a:pt x="7689" y="6995"/>
                </a:cubicBezTo>
                <a:cubicBezTo>
                  <a:pt x="7740" y="6985"/>
                  <a:pt x="7761" y="6988"/>
                  <a:pt x="7813" y="69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6040" y="4106880"/>
            <a:ext cx="1268280" cy="920880"/>
          </a:xfrm>
          <a:custGeom>
            <a:avLst/>
            <a:gdLst/>
            <a:ahLst/>
            <a:rect l="l" t="t" r="r" b="b"/>
            <a:pathLst>
              <a:path w="3524" h="2556">
                <a:moveTo>
                  <a:pt x="11013" y="11460"/>
                </a:moveTo>
                <a:cubicBezTo>
                  <a:pt x="11013" y="11432"/>
                  <a:pt x="11011" y="11421"/>
                  <a:pt x="10988" y="11410"/>
                </a:cubicBezTo>
                <a:cubicBezTo>
                  <a:pt x="11047" y="11417"/>
                  <a:pt x="11082" y="11432"/>
                  <a:pt x="11137" y="11460"/>
                </a:cubicBezTo>
                <a:cubicBezTo>
                  <a:pt x="11195" y="11489"/>
                  <a:pt x="11255" y="11534"/>
                  <a:pt x="11311" y="11559"/>
                </a:cubicBezTo>
                <a:cubicBezTo>
                  <a:pt x="11342" y="11573"/>
                  <a:pt x="11405" y="11625"/>
                  <a:pt x="11435" y="11633"/>
                </a:cubicBezTo>
                <a:cubicBezTo>
                  <a:pt x="11483" y="11646"/>
                  <a:pt x="11542" y="11660"/>
                  <a:pt x="11584" y="11683"/>
                </a:cubicBezTo>
                <a:cubicBezTo>
                  <a:pt x="11607" y="11706"/>
                  <a:pt x="11615" y="11710"/>
                  <a:pt x="11609" y="11733"/>
                </a:cubicBezTo>
                <a:cubicBezTo>
                  <a:pt x="11657" y="11772"/>
                  <a:pt x="11686" y="11807"/>
                  <a:pt x="11733" y="11857"/>
                </a:cubicBezTo>
                <a:cubicBezTo>
                  <a:pt x="11787" y="11915"/>
                  <a:pt x="11814" y="11935"/>
                  <a:pt x="11881" y="11981"/>
                </a:cubicBezTo>
                <a:cubicBezTo>
                  <a:pt x="11922" y="12009"/>
                  <a:pt x="11965" y="12019"/>
                  <a:pt x="12005" y="12055"/>
                </a:cubicBezTo>
                <a:cubicBezTo>
                  <a:pt x="12032" y="12080"/>
                  <a:pt x="12064" y="12113"/>
                  <a:pt x="12080" y="12129"/>
                </a:cubicBezTo>
                <a:cubicBezTo>
                  <a:pt x="12100" y="12144"/>
                  <a:pt x="12109" y="12139"/>
                  <a:pt x="12129" y="12154"/>
                </a:cubicBezTo>
              </a:path>
              <a:path w="3524" h="2556">
                <a:moveTo>
                  <a:pt x="13246" y="12278"/>
                </a:moveTo>
                <a:cubicBezTo>
                  <a:pt x="13238" y="12278"/>
                  <a:pt x="13229" y="12278"/>
                  <a:pt x="13221" y="12278"/>
                </a:cubicBezTo>
                <a:cubicBezTo>
                  <a:pt x="13286" y="12219"/>
                  <a:pt x="13385" y="12139"/>
                  <a:pt x="13469" y="12080"/>
                </a:cubicBezTo>
                <a:cubicBezTo>
                  <a:pt x="13566" y="12012"/>
                  <a:pt x="13681" y="11950"/>
                  <a:pt x="13791" y="11906"/>
                </a:cubicBezTo>
                <a:cubicBezTo>
                  <a:pt x="13878" y="11871"/>
                  <a:pt x="13952" y="11816"/>
                  <a:pt x="14039" y="11782"/>
                </a:cubicBezTo>
                <a:cubicBezTo>
                  <a:pt x="14114" y="11752"/>
                  <a:pt x="14195" y="11724"/>
                  <a:pt x="14263" y="11683"/>
                </a:cubicBezTo>
                <a:cubicBezTo>
                  <a:pt x="14337" y="11638"/>
                  <a:pt x="14415" y="11605"/>
                  <a:pt x="14486" y="11559"/>
                </a:cubicBezTo>
                <a:cubicBezTo>
                  <a:pt x="14494" y="11551"/>
                  <a:pt x="14503" y="11542"/>
                  <a:pt x="14511" y="11534"/>
                </a:cubicBezTo>
              </a:path>
              <a:path w="3524" h="2556">
                <a:moveTo>
                  <a:pt x="12601" y="12874"/>
                </a:moveTo>
                <a:cubicBezTo>
                  <a:pt x="12609" y="12866"/>
                  <a:pt x="12618" y="12857"/>
                  <a:pt x="12626" y="12849"/>
                </a:cubicBezTo>
                <a:cubicBezTo>
                  <a:pt x="12626" y="12923"/>
                  <a:pt x="12611" y="12975"/>
                  <a:pt x="12601" y="13047"/>
                </a:cubicBezTo>
                <a:cubicBezTo>
                  <a:pt x="12589" y="13127"/>
                  <a:pt x="12580" y="13215"/>
                  <a:pt x="12576" y="13295"/>
                </a:cubicBezTo>
                <a:cubicBezTo>
                  <a:pt x="12572" y="13370"/>
                  <a:pt x="12597" y="13423"/>
                  <a:pt x="12601" y="13494"/>
                </a:cubicBezTo>
                <a:cubicBezTo>
                  <a:pt x="12608" y="13626"/>
                  <a:pt x="12548" y="13860"/>
                  <a:pt x="12626" y="139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2800" y="3116160"/>
            <a:ext cx="2411280" cy="27000"/>
          </a:xfrm>
          <a:custGeom>
            <a:avLst/>
            <a:gdLst/>
            <a:ahLst/>
            <a:rect l="l" t="t" r="r" b="b"/>
            <a:pathLst>
              <a:path w="6698" h="75">
                <a:moveTo>
                  <a:pt x="2729" y="8657"/>
                </a:moveTo>
                <a:cubicBezTo>
                  <a:pt x="2900" y="8674"/>
                  <a:pt x="3076" y="8699"/>
                  <a:pt x="3249" y="8706"/>
                </a:cubicBezTo>
                <a:cubicBezTo>
                  <a:pt x="3826" y="8729"/>
                  <a:pt x="4411" y="8710"/>
                  <a:pt x="4986" y="8682"/>
                </a:cubicBezTo>
                <a:cubicBezTo>
                  <a:pt x="5178" y="8673"/>
                  <a:pt x="5363" y="8721"/>
                  <a:pt x="5556" y="8706"/>
                </a:cubicBezTo>
                <a:cubicBezTo>
                  <a:pt x="5826" y="8685"/>
                  <a:pt x="6104" y="8641"/>
                  <a:pt x="6375" y="8657"/>
                </a:cubicBezTo>
                <a:cubicBezTo>
                  <a:pt x="6638" y="8672"/>
                  <a:pt x="6906" y="8681"/>
                  <a:pt x="7169" y="8706"/>
                </a:cubicBezTo>
                <a:cubicBezTo>
                  <a:pt x="7504" y="8737"/>
                  <a:pt x="7849" y="8747"/>
                  <a:pt x="8186" y="8731"/>
                </a:cubicBezTo>
                <a:cubicBezTo>
                  <a:pt x="8571" y="8713"/>
                  <a:pt x="8945" y="8701"/>
                  <a:pt x="9327" y="8731"/>
                </a:cubicBezTo>
                <a:cubicBezTo>
                  <a:pt x="9368" y="8734"/>
                  <a:pt x="9360" y="8728"/>
                  <a:pt x="9401" y="873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at least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920" y="48888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4000" y="1847880"/>
            <a:ext cx="3162240" cy="430200"/>
          </a:xfrm>
          <a:custGeom>
            <a:avLst/>
            <a:gdLst/>
            <a:ahLst/>
            <a:rect l="l" t="t" r="r" b="b"/>
            <a:pathLst>
              <a:path w="8782" h="1191">
                <a:moveTo>
                  <a:pt x="17264" y="6276"/>
                </a:moveTo>
                <a:cubicBezTo>
                  <a:pt x="17340" y="6288"/>
                  <a:pt x="17409" y="6298"/>
                  <a:pt x="17487" y="6300"/>
                </a:cubicBezTo>
                <a:cubicBezTo>
                  <a:pt x="17640" y="6305"/>
                  <a:pt x="17786" y="6292"/>
                  <a:pt x="17934" y="6276"/>
                </a:cubicBezTo>
                <a:cubicBezTo>
                  <a:pt x="18184" y="6249"/>
                  <a:pt x="18458" y="6274"/>
                  <a:pt x="18703" y="6300"/>
                </a:cubicBezTo>
                <a:cubicBezTo>
                  <a:pt x="18802" y="6311"/>
                  <a:pt x="18899" y="6336"/>
                  <a:pt x="19000" y="6325"/>
                </a:cubicBezTo>
                <a:cubicBezTo>
                  <a:pt x="19109" y="6313"/>
                  <a:pt x="19210" y="6300"/>
                  <a:pt x="19323" y="6300"/>
                </a:cubicBezTo>
                <a:cubicBezTo>
                  <a:pt x="19844" y="6300"/>
                  <a:pt x="20369" y="6285"/>
                  <a:pt x="20886" y="6325"/>
                </a:cubicBezTo>
                <a:cubicBezTo>
                  <a:pt x="20984" y="6333"/>
                  <a:pt x="21085" y="6325"/>
                  <a:pt x="21183" y="6325"/>
                </a:cubicBezTo>
              </a:path>
              <a:path w="8782" h="1191">
                <a:moveTo>
                  <a:pt x="12526" y="5407"/>
                </a:moveTo>
                <a:cubicBezTo>
                  <a:pt x="12479" y="5567"/>
                  <a:pt x="12376" y="5778"/>
                  <a:pt x="12427" y="5953"/>
                </a:cubicBezTo>
                <a:cubicBezTo>
                  <a:pt x="12526" y="6294"/>
                  <a:pt x="12772" y="5533"/>
                  <a:pt x="12774" y="5482"/>
                </a:cubicBezTo>
                <a:cubicBezTo>
                  <a:pt x="12786" y="5172"/>
                  <a:pt x="12540" y="5133"/>
                  <a:pt x="12452" y="5432"/>
                </a:cubicBezTo>
                <a:cubicBezTo>
                  <a:pt x="12347" y="5785"/>
                  <a:pt x="12418" y="5912"/>
                  <a:pt x="12601" y="6176"/>
                </a:cubicBezTo>
                <a:cubicBezTo>
                  <a:pt x="12993" y="6028"/>
                  <a:pt x="13109" y="5779"/>
                  <a:pt x="13022" y="5333"/>
                </a:cubicBezTo>
                <a:cubicBezTo>
                  <a:pt x="12918" y="4797"/>
                  <a:pt x="12629" y="5646"/>
                  <a:pt x="12626" y="5730"/>
                </a:cubicBezTo>
                <a:cubicBezTo>
                  <a:pt x="12611" y="6141"/>
                  <a:pt x="12722" y="6116"/>
                  <a:pt x="12998" y="6077"/>
                </a:cubicBezTo>
                <a:cubicBezTo>
                  <a:pt x="13154" y="5807"/>
                  <a:pt x="13437" y="5120"/>
                  <a:pt x="13171" y="5283"/>
                </a:cubicBezTo>
                <a:cubicBezTo>
                  <a:pt x="13032" y="5368"/>
                  <a:pt x="12823" y="5990"/>
                  <a:pt x="13122" y="5978"/>
                </a:cubicBezTo>
                <a:cubicBezTo>
                  <a:pt x="13369" y="5968"/>
                  <a:pt x="13693" y="5235"/>
                  <a:pt x="13419" y="5184"/>
                </a:cubicBezTo>
                <a:cubicBezTo>
                  <a:pt x="13024" y="5111"/>
                  <a:pt x="13169" y="6032"/>
                  <a:pt x="13196" y="6176"/>
                </a:cubicBezTo>
                <a:cubicBezTo>
                  <a:pt x="13602" y="6112"/>
                  <a:pt x="13684" y="5773"/>
                  <a:pt x="13593" y="5358"/>
                </a:cubicBezTo>
                <a:cubicBezTo>
                  <a:pt x="13510" y="4978"/>
                  <a:pt x="13228" y="5757"/>
                  <a:pt x="13246" y="5879"/>
                </a:cubicBezTo>
                <a:cubicBezTo>
                  <a:pt x="13337" y="6497"/>
                  <a:pt x="13854" y="5696"/>
                  <a:pt x="13891" y="5507"/>
                </a:cubicBezTo>
                <a:cubicBezTo>
                  <a:pt x="14009" y="4909"/>
                  <a:pt x="13564" y="5460"/>
                  <a:pt x="13543" y="5755"/>
                </a:cubicBezTo>
                <a:cubicBezTo>
                  <a:pt x="13512" y="6184"/>
                  <a:pt x="13720" y="6040"/>
                  <a:pt x="13965" y="5953"/>
                </a:cubicBezTo>
                <a:cubicBezTo>
                  <a:pt x="13984" y="5924"/>
                  <a:pt x="14419" y="4854"/>
                  <a:pt x="14064" y="5209"/>
                </a:cubicBezTo>
                <a:cubicBezTo>
                  <a:pt x="13773" y="5500"/>
                  <a:pt x="13917" y="5878"/>
                  <a:pt x="14188" y="6003"/>
                </a:cubicBezTo>
                <a:cubicBezTo>
                  <a:pt x="14236" y="5947"/>
                  <a:pt x="14719" y="5030"/>
                  <a:pt x="14461" y="5135"/>
                </a:cubicBezTo>
                <a:cubicBezTo>
                  <a:pt x="14234" y="5227"/>
                  <a:pt x="13997" y="6063"/>
                  <a:pt x="14337" y="6003"/>
                </a:cubicBezTo>
                <a:cubicBezTo>
                  <a:pt x="14559" y="5964"/>
                  <a:pt x="15015" y="5221"/>
                  <a:pt x="14660" y="5159"/>
                </a:cubicBezTo>
                <a:cubicBezTo>
                  <a:pt x="14153" y="5070"/>
                  <a:pt x="14309" y="5883"/>
                  <a:pt x="14387" y="6077"/>
                </a:cubicBezTo>
                <a:cubicBezTo>
                  <a:pt x="14695" y="5961"/>
                  <a:pt x="15080" y="5657"/>
                  <a:pt x="14908" y="5234"/>
                </a:cubicBezTo>
                <a:cubicBezTo>
                  <a:pt x="14803" y="4976"/>
                  <a:pt x="14447" y="5704"/>
                  <a:pt x="14536" y="5928"/>
                </a:cubicBezTo>
                <a:cubicBezTo>
                  <a:pt x="14577" y="5953"/>
                  <a:pt x="14619" y="5978"/>
                  <a:pt x="14660" y="6003"/>
                </a:cubicBezTo>
                <a:cubicBezTo>
                  <a:pt x="14700" y="5967"/>
                  <a:pt x="15333" y="5196"/>
                  <a:pt x="15106" y="5209"/>
                </a:cubicBezTo>
                <a:cubicBezTo>
                  <a:pt x="14716" y="5231"/>
                  <a:pt x="14762" y="5861"/>
                  <a:pt x="14833" y="6052"/>
                </a:cubicBezTo>
                <a:cubicBezTo>
                  <a:pt x="14955" y="5960"/>
                  <a:pt x="15591" y="5401"/>
                  <a:pt x="15280" y="5184"/>
                </a:cubicBezTo>
                <a:cubicBezTo>
                  <a:pt x="14961" y="4961"/>
                  <a:pt x="14921" y="5943"/>
                  <a:pt x="14932" y="6028"/>
                </a:cubicBezTo>
                <a:cubicBezTo>
                  <a:pt x="15185" y="5925"/>
                  <a:pt x="15719" y="5675"/>
                  <a:pt x="15453" y="5283"/>
                </a:cubicBezTo>
                <a:cubicBezTo>
                  <a:pt x="15287" y="5038"/>
                  <a:pt x="15025" y="5760"/>
                  <a:pt x="15131" y="5953"/>
                </a:cubicBezTo>
                <a:cubicBezTo>
                  <a:pt x="15306" y="6272"/>
                  <a:pt x="15843" y="5533"/>
                  <a:pt x="15801" y="5308"/>
                </a:cubicBezTo>
                <a:cubicBezTo>
                  <a:pt x="15752" y="5049"/>
                  <a:pt x="15223" y="5747"/>
                  <a:pt x="15255" y="6003"/>
                </a:cubicBezTo>
                <a:cubicBezTo>
                  <a:pt x="15327" y="6574"/>
                  <a:pt x="15904" y="5578"/>
                  <a:pt x="15925" y="5507"/>
                </a:cubicBezTo>
                <a:cubicBezTo>
                  <a:pt x="16067" y="5033"/>
                  <a:pt x="15531" y="5321"/>
                  <a:pt x="15478" y="5655"/>
                </a:cubicBezTo>
                <a:cubicBezTo>
                  <a:pt x="15500" y="5913"/>
                  <a:pt x="15475" y="5990"/>
                  <a:pt x="15652" y="6052"/>
                </a:cubicBezTo>
                <a:cubicBezTo>
                  <a:pt x="15896" y="5915"/>
                  <a:pt x="16352" y="5575"/>
                  <a:pt x="16098" y="5209"/>
                </a:cubicBezTo>
                <a:cubicBezTo>
                  <a:pt x="15994" y="5060"/>
                  <a:pt x="15665" y="5685"/>
                  <a:pt x="15850" y="5904"/>
                </a:cubicBezTo>
                <a:cubicBezTo>
                  <a:pt x="16068" y="6162"/>
                  <a:pt x="16383" y="5394"/>
                  <a:pt x="16346" y="5234"/>
                </a:cubicBezTo>
                <a:cubicBezTo>
                  <a:pt x="16296" y="5019"/>
                  <a:pt x="16049" y="5744"/>
                  <a:pt x="16049" y="5854"/>
                </a:cubicBezTo>
                <a:cubicBezTo>
                  <a:pt x="16347" y="5886"/>
                  <a:pt x="16500" y="5658"/>
                  <a:pt x="16495" y="5333"/>
                </a:cubicBezTo>
                <a:cubicBezTo>
                  <a:pt x="16493" y="5185"/>
                  <a:pt x="16137" y="5681"/>
                  <a:pt x="16222" y="5928"/>
                </a:cubicBezTo>
                <a:cubicBezTo>
                  <a:pt x="16331" y="6245"/>
                  <a:pt x="16598" y="5518"/>
                  <a:pt x="16594" y="5432"/>
                </a:cubicBezTo>
                <a:cubicBezTo>
                  <a:pt x="16576" y="5012"/>
                  <a:pt x="16325" y="5646"/>
                  <a:pt x="16371" y="5854"/>
                </a:cubicBezTo>
                <a:cubicBezTo>
                  <a:pt x="16446" y="5953"/>
                  <a:pt x="16471" y="5986"/>
                  <a:pt x="16545" y="58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4720" y="4313160"/>
            <a:ext cx="1758960" cy="1384200"/>
          </a:xfrm>
          <a:custGeom>
            <a:avLst/>
            <a:gdLst/>
            <a:ahLst/>
            <a:rect l="l" t="t" r="r" b="b"/>
            <a:pathLst>
              <a:path w="4888" h="3845">
                <a:moveTo>
                  <a:pt x="9401" y="11981"/>
                </a:moveTo>
                <a:cubicBezTo>
                  <a:pt x="9495" y="12009"/>
                  <a:pt x="9549" y="12056"/>
                  <a:pt x="9624" y="12129"/>
                </a:cubicBezTo>
                <a:cubicBezTo>
                  <a:pt x="9740" y="12242"/>
                  <a:pt x="9840" y="12366"/>
                  <a:pt x="9947" y="12477"/>
                </a:cubicBezTo>
                <a:cubicBezTo>
                  <a:pt x="10009" y="12542"/>
                  <a:pt x="10102" y="12594"/>
                  <a:pt x="10170" y="12650"/>
                </a:cubicBezTo>
                <a:cubicBezTo>
                  <a:pt x="10225" y="12695"/>
                  <a:pt x="10293" y="12790"/>
                  <a:pt x="10344" y="12824"/>
                </a:cubicBezTo>
                <a:cubicBezTo>
                  <a:pt x="10438" y="12886"/>
                  <a:pt x="10469" y="12889"/>
                  <a:pt x="10542" y="12973"/>
                </a:cubicBezTo>
                <a:cubicBezTo>
                  <a:pt x="10574" y="13010"/>
                  <a:pt x="10606" y="13027"/>
                  <a:pt x="10641" y="13047"/>
                </a:cubicBezTo>
              </a:path>
              <a:path w="4888" h="3845">
                <a:moveTo>
                  <a:pt x="12626" y="13246"/>
                </a:moveTo>
                <a:cubicBezTo>
                  <a:pt x="12670" y="13186"/>
                  <a:pt x="12730" y="13149"/>
                  <a:pt x="12799" y="13097"/>
                </a:cubicBezTo>
                <a:cubicBezTo>
                  <a:pt x="12986" y="12956"/>
                  <a:pt x="13186" y="12849"/>
                  <a:pt x="13370" y="12700"/>
                </a:cubicBezTo>
                <a:cubicBezTo>
                  <a:pt x="13535" y="12566"/>
                  <a:pt x="13690" y="12396"/>
                  <a:pt x="13866" y="12278"/>
                </a:cubicBezTo>
                <a:cubicBezTo>
                  <a:pt x="13975" y="12205"/>
                  <a:pt x="14106" y="12157"/>
                  <a:pt x="14213" y="12080"/>
                </a:cubicBezTo>
                <a:cubicBezTo>
                  <a:pt x="14257" y="12049"/>
                  <a:pt x="14234" y="12065"/>
                  <a:pt x="14288" y="12080"/>
                </a:cubicBezTo>
              </a:path>
              <a:path w="4888" h="3845">
                <a:moveTo>
                  <a:pt x="11683" y="14932"/>
                </a:moveTo>
                <a:cubicBezTo>
                  <a:pt x="11683" y="14825"/>
                  <a:pt x="11676" y="15099"/>
                  <a:pt x="11658" y="15205"/>
                </a:cubicBezTo>
                <a:cubicBezTo>
                  <a:pt x="11624" y="15411"/>
                  <a:pt x="11593" y="15620"/>
                  <a:pt x="11559" y="15825"/>
                </a:cubicBezTo>
                <a:cubicBezTo>
                  <a:pt x="11559" y="15817"/>
                  <a:pt x="11559" y="15809"/>
                  <a:pt x="11559" y="15801"/>
                </a:cubicBezTo>
              </a:path>
              <a:path w="4888" h="3845">
                <a:moveTo>
                  <a:pt x="11956" y="14932"/>
                </a:moveTo>
                <a:cubicBezTo>
                  <a:pt x="11988" y="14840"/>
                  <a:pt x="11982" y="15017"/>
                  <a:pt x="11981" y="15032"/>
                </a:cubicBezTo>
                <a:cubicBezTo>
                  <a:pt x="11960" y="15266"/>
                  <a:pt x="11917" y="15494"/>
                  <a:pt x="11881" y="15726"/>
                </a:cubicBezTo>
                <a:cubicBezTo>
                  <a:pt x="11881" y="15734"/>
                  <a:pt x="11881" y="15743"/>
                  <a:pt x="11881" y="1575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5120" y="2214720"/>
            <a:ext cx="115920" cy="63360"/>
          </a:xfrm>
          <a:custGeom>
            <a:avLst/>
            <a:gdLst/>
            <a:ahLst/>
            <a:rect l="l" t="t" r="r" b="b"/>
            <a:pathLst>
              <a:path w="323" h="174">
                <a:moveTo>
                  <a:pt x="1488" y="6176"/>
                </a:moveTo>
                <a:cubicBezTo>
                  <a:pt x="1504" y="6131"/>
                  <a:pt x="1516" y="6152"/>
                  <a:pt x="1414" y="6152"/>
                </a:cubicBezTo>
                <a:cubicBezTo>
                  <a:pt x="1373" y="6152"/>
                  <a:pt x="1331" y="6152"/>
                  <a:pt x="1290" y="6152"/>
                </a:cubicBezTo>
                <a:cubicBezTo>
                  <a:pt x="1324" y="6177"/>
                  <a:pt x="1367" y="6189"/>
                  <a:pt x="1414" y="6176"/>
                </a:cubicBezTo>
                <a:cubicBezTo>
                  <a:pt x="1448" y="6166"/>
                  <a:pt x="1636" y="6140"/>
                  <a:pt x="1588" y="6152"/>
                </a:cubicBezTo>
                <a:cubicBezTo>
                  <a:pt x="1556" y="6160"/>
                  <a:pt x="1285" y="6215"/>
                  <a:pt x="1364" y="6226"/>
                </a:cubicBezTo>
                <a:cubicBezTo>
                  <a:pt x="1417" y="6234"/>
                  <a:pt x="1462" y="6206"/>
                  <a:pt x="1513" y="6201"/>
                </a:cubicBezTo>
                <a:cubicBezTo>
                  <a:pt x="1538" y="6201"/>
                  <a:pt x="1546" y="6201"/>
                  <a:pt x="1513" y="6201"/>
                </a:cubicBezTo>
                <a:cubicBezTo>
                  <a:pt x="1364" y="6236"/>
                  <a:pt x="1197" y="6247"/>
                  <a:pt x="1439" y="6276"/>
                </a:cubicBezTo>
                <a:cubicBezTo>
                  <a:pt x="1557" y="6290"/>
                  <a:pt x="1517" y="6259"/>
                  <a:pt x="1414" y="6276"/>
                </a:cubicBezTo>
                <a:cubicBezTo>
                  <a:pt x="1373" y="6284"/>
                  <a:pt x="1331" y="6292"/>
                  <a:pt x="1290" y="6300"/>
                </a:cubicBezTo>
                <a:cubicBezTo>
                  <a:pt x="1296" y="6301"/>
                  <a:pt x="1476" y="6332"/>
                  <a:pt x="1463" y="6276"/>
                </a:cubicBezTo>
                <a:cubicBezTo>
                  <a:pt x="1459" y="6257"/>
                  <a:pt x="1186" y="6325"/>
                  <a:pt x="1339" y="63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200" y="5652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5120" y="4813200"/>
            <a:ext cx="295200" cy="2952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13568" y="13494"/>
                </a:moveTo>
                <a:cubicBezTo>
                  <a:pt x="13568" y="13444"/>
                  <a:pt x="13568" y="13428"/>
                  <a:pt x="13568" y="13395"/>
                </a:cubicBezTo>
                <a:cubicBezTo>
                  <a:pt x="13568" y="13536"/>
                  <a:pt x="13545" y="13674"/>
                  <a:pt x="13543" y="13816"/>
                </a:cubicBezTo>
                <a:cubicBezTo>
                  <a:pt x="13542" y="13899"/>
                  <a:pt x="13543" y="13981"/>
                  <a:pt x="13543" y="14064"/>
                </a:cubicBezTo>
              </a:path>
              <a:path w="820" h="819">
                <a:moveTo>
                  <a:pt x="13915" y="13395"/>
                </a:moveTo>
                <a:cubicBezTo>
                  <a:pt x="13967" y="13463"/>
                  <a:pt x="13940" y="13582"/>
                  <a:pt x="13940" y="13667"/>
                </a:cubicBezTo>
                <a:cubicBezTo>
                  <a:pt x="13940" y="13799"/>
                  <a:pt x="13940" y="13932"/>
                  <a:pt x="13940" y="14064"/>
                </a:cubicBezTo>
              </a:path>
              <a:path w="820" h="819">
                <a:moveTo>
                  <a:pt x="14337" y="13395"/>
                </a:moveTo>
                <a:cubicBezTo>
                  <a:pt x="14337" y="13387"/>
                  <a:pt x="14337" y="13378"/>
                  <a:pt x="14337" y="13370"/>
                </a:cubicBezTo>
                <a:cubicBezTo>
                  <a:pt x="14390" y="13388"/>
                  <a:pt x="14362" y="13548"/>
                  <a:pt x="14362" y="13593"/>
                </a:cubicBezTo>
                <a:cubicBezTo>
                  <a:pt x="14362" y="13800"/>
                  <a:pt x="14362" y="14370"/>
                  <a:pt x="14362" y="14163"/>
                </a:cubicBezTo>
                <a:cubicBezTo>
                  <a:pt x="14362" y="14147"/>
                  <a:pt x="14362" y="14130"/>
                  <a:pt x="14362" y="1411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1800" y="4268880"/>
            <a:ext cx="312480" cy="231840"/>
          </a:xfrm>
          <a:custGeom>
            <a:avLst/>
            <a:gdLst/>
            <a:ahLst/>
            <a:rect l="l" t="t" r="r" b="b"/>
            <a:pathLst>
              <a:path w="869" h="646">
                <a:moveTo>
                  <a:pt x="15553" y="12254"/>
                </a:moveTo>
                <a:cubicBezTo>
                  <a:pt x="15525" y="12254"/>
                  <a:pt x="15514" y="12256"/>
                  <a:pt x="15503" y="12278"/>
                </a:cubicBezTo>
                <a:cubicBezTo>
                  <a:pt x="15556" y="12261"/>
                  <a:pt x="15664" y="12152"/>
                  <a:pt x="15726" y="12105"/>
                </a:cubicBezTo>
                <a:cubicBezTo>
                  <a:pt x="15817" y="12036"/>
                  <a:pt x="15921" y="11977"/>
                  <a:pt x="15999" y="11931"/>
                </a:cubicBezTo>
                <a:cubicBezTo>
                  <a:pt x="16050" y="11901"/>
                  <a:pt x="16045" y="11892"/>
                  <a:pt x="16098" y="11857"/>
                </a:cubicBezTo>
              </a:path>
              <a:path w="869" h="646">
                <a:moveTo>
                  <a:pt x="15776" y="12502"/>
                </a:moveTo>
                <a:cubicBezTo>
                  <a:pt x="15801" y="12452"/>
                  <a:pt x="15831" y="12440"/>
                  <a:pt x="15875" y="12402"/>
                </a:cubicBezTo>
                <a:cubicBezTo>
                  <a:pt x="15946" y="12340"/>
                  <a:pt x="15970" y="12325"/>
                  <a:pt x="16049" y="12278"/>
                </a:cubicBezTo>
                <a:cubicBezTo>
                  <a:pt x="16088" y="12255"/>
                  <a:pt x="16109" y="12214"/>
                  <a:pt x="16123" y="12179"/>
                </a:cubicBezTo>
                <a:cubicBezTo>
                  <a:pt x="16182" y="12164"/>
                  <a:pt x="16190" y="12133"/>
                  <a:pt x="16247" y="12105"/>
                </a:cubicBezTo>
                <a:cubicBezTo>
                  <a:pt x="16279" y="12089"/>
                  <a:pt x="16311" y="12064"/>
                  <a:pt x="16346" y="12055"/>
                </a:cubicBezTo>
                <a:cubicBezTo>
                  <a:pt x="16346" y="12030"/>
                  <a:pt x="16346" y="12022"/>
                  <a:pt x="16371" y="1203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38800" y="2500200"/>
            <a:ext cx="2286000" cy="142920"/>
          </a:xfrm>
          <a:custGeom>
            <a:avLst/>
            <a:gdLst/>
            <a:ahLst/>
            <a:rect l="l" t="t" r="r" b="b"/>
            <a:pathLst>
              <a:path w="6351" h="398">
                <a:moveTo>
                  <a:pt x="12328" y="6970"/>
                </a:moveTo>
                <a:cubicBezTo>
                  <a:pt x="12395" y="6966"/>
                  <a:pt x="12466" y="6949"/>
                  <a:pt x="12526" y="6945"/>
                </a:cubicBezTo>
                <a:cubicBezTo>
                  <a:pt x="12694" y="6935"/>
                  <a:pt x="12863" y="6959"/>
                  <a:pt x="13022" y="6970"/>
                </a:cubicBezTo>
                <a:cubicBezTo>
                  <a:pt x="13268" y="6987"/>
                  <a:pt x="13522" y="6990"/>
                  <a:pt x="13767" y="6995"/>
                </a:cubicBezTo>
                <a:cubicBezTo>
                  <a:pt x="13942" y="6999"/>
                  <a:pt x="14114" y="7041"/>
                  <a:pt x="14288" y="7069"/>
                </a:cubicBezTo>
                <a:cubicBezTo>
                  <a:pt x="14488" y="7101"/>
                  <a:pt x="14679" y="7178"/>
                  <a:pt x="14883" y="7193"/>
                </a:cubicBezTo>
                <a:cubicBezTo>
                  <a:pt x="15107" y="7210"/>
                  <a:pt x="15330" y="7237"/>
                  <a:pt x="15553" y="7268"/>
                </a:cubicBezTo>
                <a:cubicBezTo>
                  <a:pt x="15808" y="7304"/>
                  <a:pt x="16065" y="7297"/>
                  <a:pt x="16321" y="7317"/>
                </a:cubicBezTo>
                <a:cubicBezTo>
                  <a:pt x="16645" y="7342"/>
                  <a:pt x="16964" y="7342"/>
                  <a:pt x="17289" y="7342"/>
                </a:cubicBezTo>
                <a:cubicBezTo>
                  <a:pt x="17471" y="7342"/>
                  <a:pt x="19141" y="7342"/>
                  <a:pt x="18405" y="73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6920" y="3116160"/>
            <a:ext cx="3035160" cy="54000"/>
          </a:xfrm>
          <a:custGeom>
            <a:avLst/>
            <a:gdLst/>
            <a:ahLst/>
            <a:rect l="l" t="t" r="r" b="b"/>
            <a:pathLst>
              <a:path w="8435" h="150">
                <a:moveTo>
                  <a:pt x="3795" y="8756"/>
                </a:moveTo>
                <a:cubicBezTo>
                  <a:pt x="3991" y="8712"/>
                  <a:pt x="4165" y="8697"/>
                  <a:pt x="4366" y="8682"/>
                </a:cubicBezTo>
                <a:cubicBezTo>
                  <a:pt x="4727" y="8655"/>
                  <a:pt x="5071" y="8672"/>
                  <a:pt x="5432" y="8682"/>
                </a:cubicBezTo>
                <a:cubicBezTo>
                  <a:pt x="5938" y="8697"/>
                  <a:pt x="6441" y="8759"/>
                  <a:pt x="6945" y="8781"/>
                </a:cubicBezTo>
                <a:cubicBezTo>
                  <a:pt x="7211" y="8792"/>
                  <a:pt x="7502" y="8822"/>
                  <a:pt x="7764" y="8806"/>
                </a:cubicBezTo>
                <a:cubicBezTo>
                  <a:pt x="8030" y="8789"/>
                  <a:pt x="8291" y="8781"/>
                  <a:pt x="8558" y="8781"/>
                </a:cubicBezTo>
                <a:cubicBezTo>
                  <a:pt x="8874" y="8781"/>
                  <a:pt x="9186" y="8768"/>
                  <a:pt x="9500" y="8756"/>
                </a:cubicBezTo>
                <a:cubicBezTo>
                  <a:pt x="9929" y="8739"/>
                  <a:pt x="10361" y="8745"/>
                  <a:pt x="10790" y="8731"/>
                </a:cubicBezTo>
                <a:cubicBezTo>
                  <a:pt x="11146" y="8720"/>
                  <a:pt x="11502" y="8720"/>
                  <a:pt x="11857" y="8706"/>
                </a:cubicBezTo>
                <a:cubicBezTo>
                  <a:pt x="11980" y="8701"/>
                  <a:pt x="12105" y="8706"/>
                  <a:pt x="12229" y="87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5120" y="4259160"/>
            <a:ext cx="268560" cy="135000"/>
          </a:xfrm>
          <a:custGeom>
            <a:avLst/>
            <a:gdLst/>
            <a:ahLst/>
            <a:rect l="l" t="t" r="r" b="b"/>
            <a:pathLst>
              <a:path w="745" h="373">
                <a:moveTo>
                  <a:pt x="10319" y="11881"/>
                </a:moveTo>
                <a:cubicBezTo>
                  <a:pt x="10296" y="11859"/>
                  <a:pt x="10288" y="11854"/>
                  <a:pt x="10294" y="11832"/>
                </a:cubicBezTo>
                <a:cubicBezTo>
                  <a:pt x="10342" y="11844"/>
                  <a:pt x="10351" y="11879"/>
                  <a:pt x="10393" y="11906"/>
                </a:cubicBezTo>
                <a:cubicBezTo>
                  <a:pt x="10447" y="11941"/>
                  <a:pt x="10491" y="11954"/>
                  <a:pt x="10542" y="11981"/>
                </a:cubicBezTo>
                <a:cubicBezTo>
                  <a:pt x="10590" y="12004"/>
                  <a:pt x="10605" y="12012"/>
                  <a:pt x="10641" y="12005"/>
                </a:cubicBezTo>
                <a:cubicBezTo>
                  <a:pt x="10655" y="12048"/>
                  <a:pt x="10699" y="12030"/>
                  <a:pt x="10740" y="12055"/>
                </a:cubicBezTo>
                <a:cubicBezTo>
                  <a:pt x="10778" y="12078"/>
                  <a:pt x="10822" y="12111"/>
                  <a:pt x="10864" y="12129"/>
                </a:cubicBezTo>
                <a:cubicBezTo>
                  <a:pt x="10892" y="12141"/>
                  <a:pt x="10935" y="12147"/>
                  <a:pt x="10964" y="12154"/>
                </a:cubicBezTo>
                <a:cubicBezTo>
                  <a:pt x="10975" y="12189"/>
                  <a:pt x="10971" y="12179"/>
                  <a:pt x="11013" y="12179"/>
                </a:cubicBezTo>
                <a:cubicBezTo>
                  <a:pt x="11013" y="12204"/>
                  <a:pt x="11013" y="12212"/>
                  <a:pt x="11038" y="1220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89160" y="2660760"/>
            <a:ext cx="2135160" cy="428400"/>
          </a:xfrm>
          <a:custGeom>
            <a:avLst/>
            <a:gdLst/>
            <a:ahLst/>
            <a:rect l="l" t="t" r="r" b="b"/>
            <a:pathLst>
              <a:path w="5930" h="1191">
                <a:moveTo>
                  <a:pt x="9128" y="8210"/>
                </a:moveTo>
                <a:cubicBezTo>
                  <a:pt x="9006" y="8334"/>
                  <a:pt x="8929" y="8335"/>
                  <a:pt x="8756" y="8260"/>
                </a:cubicBezTo>
                <a:cubicBezTo>
                  <a:pt x="8657" y="8201"/>
                  <a:pt x="8642" y="8190"/>
                  <a:pt x="8582" y="8161"/>
                </a:cubicBezTo>
                <a:cubicBezTo>
                  <a:pt x="8710" y="8295"/>
                  <a:pt x="8830" y="8423"/>
                  <a:pt x="9029" y="8483"/>
                </a:cubicBezTo>
                <a:cubicBezTo>
                  <a:pt x="9293" y="8563"/>
                  <a:pt x="9628" y="8499"/>
                  <a:pt x="9773" y="8235"/>
                </a:cubicBezTo>
                <a:cubicBezTo>
                  <a:pt x="9901" y="8001"/>
                  <a:pt x="9897" y="7640"/>
                  <a:pt x="9723" y="7441"/>
                </a:cubicBezTo>
                <a:cubicBezTo>
                  <a:pt x="9652" y="7394"/>
                  <a:pt x="9631" y="7376"/>
                  <a:pt x="9575" y="7417"/>
                </a:cubicBezTo>
                <a:cubicBezTo>
                  <a:pt x="9487" y="7766"/>
                  <a:pt x="9388" y="8167"/>
                  <a:pt x="9575" y="8508"/>
                </a:cubicBezTo>
                <a:cubicBezTo>
                  <a:pt x="9600" y="8533"/>
                  <a:pt x="9624" y="8557"/>
                  <a:pt x="9649" y="8582"/>
                </a:cubicBezTo>
                <a:cubicBezTo>
                  <a:pt x="9869" y="8456"/>
                  <a:pt x="9949" y="8273"/>
                  <a:pt x="10096" y="8062"/>
                </a:cubicBezTo>
                <a:cubicBezTo>
                  <a:pt x="10187" y="7931"/>
                  <a:pt x="10177" y="7933"/>
                  <a:pt x="10319" y="7913"/>
                </a:cubicBezTo>
                <a:cubicBezTo>
                  <a:pt x="10438" y="8068"/>
                  <a:pt x="10526" y="8272"/>
                  <a:pt x="10244" y="8359"/>
                </a:cubicBezTo>
                <a:cubicBezTo>
                  <a:pt x="10131" y="8394"/>
                  <a:pt x="9959" y="8356"/>
                  <a:pt x="9847" y="8334"/>
                </a:cubicBezTo>
              </a:path>
              <a:path w="5930" h="1191">
                <a:moveTo>
                  <a:pt x="10716" y="7987"/>
                </a:moveTo>
                <a:cubicBezTo>
                  <a:pt x="10673" y="8006"/>
                  <a:pt x="10562" y="7960"/>
                  <a:pt x="10517" y="8136"/>
                </a:cubicBezTo>
                <a:cubicBezTo>
                  <a:pt x="10472" y="8311"/>
                  <a:pt x="10552" y="8352"/>
                  <a:pt x="10666" y="8434"/>
                </a:cubicBezTo>
                <a:cubicBezTo>
                  <a:pt x="10834" y="8325"/>
                  <a:pt x="10905" y="8228"/>
                  <a:pt x="10740" y="8037"/>
                </a:cubicBezTo>
                <a:cubicBezTo>
                  <a:pt x="10732" y="8037"/>
                  <a:pt x="10724" y="8037"/>
                  <a:pt x="10716" y="8037"/>
                </a:cubicBezTo>
                <a:cubicBezTo>
                  <a:pt x="10898" y="8201"/>
                  <a:pt x="10934" y="8016"/>
                  <a:pt x="11137" y="7962"/>
                </a:cubicBezTo>
                <a:cubicBezTo>
                  <a:pt x="11334" y="7910"/>
                  <a:pt x="11528" y="8090"/>
                  <a:pt x="11410" y="8285"/>
                </a:cubicBezTo>
                <a:cubicBezTo>
                  <a:pt x="11344" y="8394"/>
                  <a:pt x="11141" y="8262"/>
                  <a:pt x="11063" y="8235"/>
                </a:cubicBezTo>
                <a:cubicBezTo>
                  <a:pt x="10836" y="8101"/>
                  <a:pt x="11088" y="8254"/>
                  <a:pt x="11137" y="8260"/>
                </a:cubicBezTo>
                <a:cubicBezTo>
                  <a:pt x="11375" y="8288"/>
                  <a:pt x="11502" y="8193"/>
                  <a:pt x="11658" y="8037"/>
                </a:cubicBezTo>
                <a:cubicBezTo>
                  <a:pt x="11708" y="7987"/>
                  <a:pt x="11796" y="8048"/>
                  <a:pt x="11832" y="7987"/>
                </a:cubicBezTo>
                <a:cubicBezTo>
                  <a:pt x="11850" y="7957"/>
                  <a:pt x="11807" y="7987"/>
                  <a:pt x="11782" y="7962"/>
                </a:cubicBezTo>
                <a:cubicBezTo>
                  <a:pt x="11630" y="8025"/>
                  <a:pt x="11595" y="8024"/>
                  <a:pt x="11609" y="8235"/>
                </a:cubicBezTo>
                <a:cubicBezTo>
                  <a:pt x="11625" y="8462"/>
                  <a:pt x="11912" y="8405"/>
                  <a:pt x="12055" y="8359"/>
                </a:cubicBezTo>
                <a:cubicBezTo>
                  <a:pt x="12206" y="8310"/>
                  <a:pt x="12417" y="8217"/>
                  <a:pt x="12427" y="8086"/>
                </a:cubicBezTo>
                <a:cubicBezTo>
                  <a:pt x="12411" y="8070"/>
                  <a:pt x="12394" y="8053"/>
                  <a:pt x="12378" y="8037"/>
                </a:cubicBezTo>
                <a:cubicBezTo>
                  <a:pt x="12293" y="8096"/>
                  <a:pt x="12128" y="8161"/>
                  <a:pt x="12229" y="8310"/>
                </a:cubicBezTo>
                <a:cubicBezTo>
                  <a:pt x="12355" y="8496"/>
                  <a:pt x="12660" y="8385"/>
                  <a:pt x="12799" y="8285"/>
                </a:cubicBezTo>
                <a:cubicBezTo>
                  <a:pt x="13018" y="8127"/>
                  <a:pt x="13081" y="7840"/>
                  <a:pt x="12998" y="7590"/>
                </a:cubicBezTo>
                <a:cubicBezTo>
                  <a:pt x="12945" y="7431"/>
                  <a:pt x="12862" y="7430"/>
                  <a:pt x="12725" y="7392"/>
                </a:cubicBezTo>
                <a:cubicBezTo>
                  <a:pt x="12651" y="7604"/>
                  <a:pt x="12609" y="7748"/>
                  <a:pt x="12650" y="7987"/>
                </a:cubicBezTo>
                <a:cubicBezTo>
                  <a:pt x="12693" y="8239"/>
                  <a:pt x="12790" y="8359"/>
                  <a:pt x="13047" y="8310"/>
                </a:cubicBezTo>
                <a:cubicBezTo>
                  <a:pt x="13191" y="8283"/>
                  <a:pt x="13581" y="8149"/>
                  <a:pt x="13593" y="7962"/>
                </a:cubicBezTo>
                <a:cubicBezTo>
                  <a:pt x="13576" y="7937"/>
                  <a:pt x="13560" y="7913"/>
                  <a:pt x="13543" y="7888"/>
                </a:cubicBezTo>
                <a:cubicBezTo>
                  <a:pt x="13378" y="8003"/>
                  <a:pt x="13359" y="7987"/>
                  <a:pt x="13370" y="8235"/>
                </a:cubicBezTo>
                <a:cubicBezTo>
                  <a:pt x="13508" y="8350"/>
                  <a:pt x="13634" y="8308"/>
                  <a:pt x="13791" y="8186"/>
                </a:cubicBezTo>
                <a:cubicBezTo>
                  <a:pt x="13906" y="8097"/>
                  <a:pt x="14063" y="7903"/>
                  <a:pt x="14238" y="7962"/>
                </a:cubicBezTo>
                <a:cubicBezTo>
                  <a:pt x="14368" y="8006"/>
                  <a:pt x="14411" y="8162"/>
                  <a:pt x="14263" y="8210"/>
                </a:cubicBezTo>
                <a:cubicBezTo>
                  <a:pt x="14139" y="8210"/>
                  <a:pt x="14098" y="8210"/>
                  <a:pt x="14015" y="8210"/>
                </a:cubicBezTo>
                <a:cubicBezTo>
                  <a:pt x="13948" y="8243"/>
                  <a:pt x="13951" y="8164"/>
                  <a:pt x="14015" y="8260"/>
                </a:cubicBezTo>
                <a:cubicBezTo>
                  <a:pt x="14263" y="8213"/>
                  <a:pt x="14448" y="8065"/>
                  <a:pt x="14511" y="7789"/>
                </a:cubicBezTo>
                <a:cubicBezTo>
                  <a:pt x="14484" y="7707"/>
                  <a:pt x="14468" y="7684"/>
                  <a:pt x="14387" y="773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2840" y="3313080"/>
            <a:ext cx="812520" cy="419040"/>
          </a:xfrm>
          <a:custGeom>
            <a:avLst/>
            <a:gdLst/>
            <a:ahLst/>
            <a:rect l="l" t="t" r="r" b="b"/>
            <a:pathLst>
              <a:path w="2258" h="1166">
                <a:moveTo>
                  <a:pt x="4266" y="10220"/>
                </a:moveTo>
                <a:cubicBezTo>
                  <a:pt x="4657" y="10302"/>
                  <a:pt x="5057" y="10328"/>
                  <a:pt x="5457" y="10269"/>
                </a:cubicBezTo>
                <a:cubicBezTo>
                  <a:pt x="5733" y="10228"/>
                  <a:pt x="6360" y="10129"/>
                  <a:pt x="6375" y="9748"/>
                </a:cubicBezTo>
                <a:cubicBezTo>
                  <a:pt x="6392" y="9318"/>
                  <a:pt x="5782" y="9210"/>
                  <a:pt x="5482" y="9203"/>
                </a:cubicBezTo>
                <a:cubicBezTo>
                  <a:pt x="4933" y="9191"/>
                  <a:pt x="4307" y="9312"/>
                  <a:pt x="4118" y="9897"/>
                </a:cubicBezTo>
                <a:cubicBezTo>
                  <a:pt x="3927" y="10489"/>
                  <a:pt x="4606" y="10331"/>
                  <a:pt x="4887" y="102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2295360"/>
            <a:ext cx="1063440" cy="554040"/>
          </a:xfrm>
          <a:custGeom>
            <a:avLst/>
            <a:gdLst/>
            <a:ahLst/>
            <a:rect l="l" t="t" r="r" b="b"/>
            <a:pathLst>
              <a:path w="2953" h="1539">
                <a:moveTo>
                  <a:pt x="1017" y="7764"/>
                </a:moveTo>
                <a:cubicBezTo>
                  <a:pt x="1492" y="7764"/>
                  <a:pt x="1935" y="7738"/>
                  <a:pt x="2406" y="7665"/>
                </a:cubicBezTo>
                <a:cubicBezTo>
                  <a:pt x="2940" y="7582"/>
                  <a:pt x="3275" y="7537"/>
                  <a:pt x="3448" y="7020"/>
                </a:cubicBezTo>
                <a:cubicBezTo>
                  <a:pt x="3049" y="6642"/>
                  <a:pt x="2660" y="6409"/>
                  <a:pt x="2084" y="6375"/>
                </a:cubicBezTo>
                <a:cubicBezTo>
                  <a:pt x="1471" y="6339"/>
                  <a:pt x="853" y="6527"/>
                  <a:pt x="571" y="7119"/>
                </a:cubicBezTo>
                <a:cubicBezTo>
                  <a:pt x="151" y="8001"/>
                  <a:pt x="1352" y="7874"/>
                  <a:pt x="1811" y="788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0360" y="3714840"/>
            <a:ext cx="1764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19000" y="10319"/>
                </a:moveTo>
                <a:cubicBezTo>
                  <a:pt x="19017" y="10319"/>
                  <a:pt x="19033" y="10319"/>
                  <a:pt x="19050" y="10319"/>
                </a:cubicBezTo>
              </a:path>
              <a:path w="51" h="1">
                <a:moveTo>
                  <a:pt x="19050" y="10319"/>
                </a:moveTo>
                <a:lnTo>
                  <a:pt x="19050" y="1031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7040" y="3429000"/>
            <a:ext cx="1982880" cy="928800"/>
          </a:xfrm>
          <a:custGeom>
            <a:avLst/>
            <a:gdLst/>
            <a:ahLst/>
            <a:rect l="l" t="t" r="r" b="b"/>
            <a:pathLst>
              <a:path w="5508" h="2581">
                <a:moveTo>
                  <a:pt x="16966" y="10964"/>
                </a:moveTo>
                <a:cubicBezTo>
                  <a:pt x="17173" y="10950"/>
                  <a:pt x="17333" y="10945"/>
                  <a:pt x="17512" y="10815"/>
                </a:cubicBezTo>
                <a:cubicBezTo>
                  <a:pt x="17685" y="10690"/>
                  <a:pt x="17708" y="10553"/>
                  <a:pt x="17735" y="10393"/>
                </a:cubicBezTo>
                <a:cubicBezTo>
                  <a:pt x="17562" y="10366"/>
                  <a:pt x="17420" y="10484"/>
                  <a:pt x="17413" y="10691"/>
                </a:cubicBezTo>
                <a:cubicBezTo>
                  <a:pt x="17402" y="11002"/>
                  <a:pt x="17692" y="10973"/>
                  <a:pt x="17884" y="10864"/>
                </a:cubicBezTo>
                <a:cubicBezTo>
                  <a:pt x="18056" y="10766"/>
                  <a:pt x="18158" y="10591"/>
                  <a:pt x="18231" y="10418"/>
                </a:cubicBezTo>
                <a:cubicBezTo>
                  <a:pt x="18219" y="10423"/>
                  <a:pt x="18266" y="10289"/>
                  <a:pt x="18157" y="10418"/>
                </a:cubicBezTo>
                <a:cubicBezTo>
                  <a:pt x="18084" y="10504"/>
                  <a:pt x="17864" y="10807"/>
                  <a:pt x="17983" y="10889"/>
                </a:cubicBezTo>
                <a:cubicBezTo>
                  <a:pt x="18099" y="10969"/>
                  <a:pt x="18262" y="10572"/>
                  <a:pt x="18281" y="10517"/>
                </a:cubicBezTo>
                <a:cubicBezTo>
                  <a:pt x="18281" y="10484"/>
                  <a:pt x="18281" y="10484"/>
                  <a:pt x="18281" y="10542"/>
                </a:cubicBezTo>
                <a:cubicBezTo>
                  <a:pt x="18158" y="10910"/>
                  <a:pt x="18022" y="11289"/>
                  <a:pt x="17884" y="11658"/>
                </a:cubicBezTo>
                <a:cubicBezTo>
                  <a:pt x="17828" y="11807"/>
                  <a:pt x="17782" y="11956"/>
                  <a:pt x="17735" y="12105"/>
                </a:cubicBezTo>
                <a:cubicBezTo>
                  <a:pt x="17959" y="11968"/>
                  <a:pt x="18043" y="11702"/>
                  <a:pt x="18058" y="11435"/>
                </a:cubicBezTo>
                <a:cubicBezTo>
                  <a:pt x="18072" y="11186"/>
                  <a:pt x="18003" y="11141"/>
                  <a:pt x="17835" y="11038"/>
                </a:cubicBezTo>
                <a:cubicBezTo>
                  <a:pt x="18005" y="11038"/>
                  <a:pt x="18122" y="10993"/>
                  <a:pt x="18281" y="10864"/>
                </a:cubicBezTo>
                <a:cubicBezTo>
                  <a:pt x="18423" y="10723"/>
                  <a:pt x="18461" y="10705"/>
                  <a:pt x="18504" y="10592"/>
                </a:cubicBezTo>
                <a:cubicBezTo>
                  <a:pt x="18534" y="10707"/>
                  <a:pt x="18462" y="10777"/>
                  <a:pt x="18628" y="10765"/>
                </a:cubicBezTo>
                <a:cubicBezTo>
                  <a:pt x="18780" y="10754"/>
                  <a:pt x="18834" y="10624"/>
                  <a:pt x="18901" y="10517"/>
                </a:cubicBezTo>
                <a:cubicBezTo>
                  <a:pt x="18914" y="10619"/>
                  <a:pt x="18894" y="10750"/>
                  <a:pt x="19050" y="10740"/>
                </a:cubicBezTo>
                <a:cubicBezTo>
                  <a:pt x="19287" y="10724"/>
                  <a:pt x="19458" y="10429"/>
                  <a:pt x="19496" y="10220"/>
                </a:cubicBezTo>
                <a:cubicBezTo>
                  <a:pt x="19529" y="10040"/>
                  <a:pt x="19473" y="10074"/>
                  <a:pt x="19422" y="9971"/>
                </a:cubicBezTo>
                <a:cubicBezTo>
                  <a:pt x="19299" y="10133"/>
                  <a:pt x="19257" y="10252"/>
                  <a:pt x="19273" y="10517"/>
                </a:cubicBezTo>
                <a:cubicBezTo>
                  <a:pt x="19291" y="10809"/>
                  <a:pt x="19476" y="10751"/>
                  <a:pt x="19695" y="10691"/>
                </a:cubicBezTo>
                <a:cubicBezTo>
                  <a:pt x="19720" y="10683"/>
                  <a:pt x="19744" y="10674"/>
                  <a:pt x="19769" y="10666"/>
                </a:cubicBezTo>
              </a:path>
              <a:path w="5508" h="2581">
                <a:moveTo>
                  <a:pt x="19100" y="10542"/>
                </a:moveTo>
                <a:cubicBezTo>
                  <a:pt x="19100" y="10476"/>
                  <a:pt x="19109" y="10625"/>
                  <a:pt x="19100" y="10691"/>
                </a:cubicBezTo>
                <a:cubicBezTo>
                  <a:pt x="19077" y="10855"/>
                  <a:pt x="19084" y="10828"/>
                  <a:pt x="19025" y="10691"/>
                </a:cubicBezTo>
              </a:path>
              <a:path w="5508" h="2581">
                <a:moveTo>
                  <a:pt x="19968" y="10368"/>
                </a:moveTo>
                <a:cubicBezTo>
                  <a:pt x="19842" y="10321"/>
                  <a:pt x="19777" y="10297"/>
                  <a:pt x="19670" y="10492"/>
                </a:cubicBezTo>
                <a:cubicBezTo>
                  <a:pt x="19569" y="10676"/>
                  <a:pt x="19801" y="10739"/>
                  <a:pt x="19869" y="10592"/>
                </a:cubicBezTo>
                <a:cubicBezTo>
                  <a:pt x="19877" y="10542"/>
                  <a:pt x="19885" y="10493"/>
                  <a:pt x="19893" y="10443"/>
                </a:cubicBezTo>
                <a:cubicBezTo>
                  <a:pt x="19925" y="10539"/>
                  <a:pt x="19920" y="10685"/>
                  <a:pt x="20067" y="10616"/>
                </a:cubicBezTo>
                <a:cubicBezTo>
                  <a:pt x="20285" y="10514"/>
                  <a:pt x="20320" y="10181"/>
                  <a:pt x="20315" y="9971"/>
                </a:cubicBezTo>
                <a:cubicBezTo>
                  <a:pt x="20307" y="9955"/>
                  <a:pt x="20298" y="9938"/>
                  <a:pt x="20290" y="9922"/>
                </a:cubicBezTo>
                <a:cubicBezTo>
                  <a:pt x="20290" y="10128"/>
                  <a:pt x="20272" y="10339"/>
                  <a:pt x="20315" y="10542"/>
                </a:cubicBezTo>
                <a:cubicBezTo>
                  <a:pt x="20361" y="10656"/>
                  <a:pt x="20368" y="10695"/>
                  <a:pt x="20464" y="10691"/>
                </a:cubicBezTo>
                <a:cubicBezTo>
                  <a:pt x="20598" y="10550"/>
                  <a:pt x="20682" y="10414"/>
                  <a:pt x="20786" y="10244"/>
                </a:cubicBezTo>
                <a:cubicBezTo>
                  <a:pt x="20770" y="10324"/>
                  <a:pt x="20670" y="10563"/>
                  <a:pt x="20811" y="10616"/>
                </a:cubicBezTo>
                <a:cubicBezTo>
                  <a:pt x="21004" y="10689"/>
                  <a:pt x="21113" y="10292"/>
                  <a:pt x="21158" y="10195"/>
                </a:cubicBezTo>
                <a:cubicBezTo>
                  <a:pt x="21166" y="10187"/>
                  <a:pt x="21175" y="10178"/>
                  <a:pt x="21183" y="10170"/>
                </a:cubicBezTo>
                <a:cubicBezTo>
                  <a:pt x="21200" y="10203"/>
                  <a:pt x="21298" y="10490"/>
                  <a:pt x="21307" y="10492"/>
                </a:cubicBezTo>
                <a:cubicBezTo>
                  <a:pt x="21307" y="10561"/>
                  <a:pt x="21349" y="10556"/>
                  <a:pt x="21456" y="10468"/>
                </a:cubicBezTo>
              </a:path>
              <a:path w="5508" h="2581">
                <a:moveTo>
                  <a:pt x="21679" y="10071"/>
                </a:moveTo>
                <a:cubicBezTo>
                  <a:pt x="21540" y="10191"/>
                  <a:pt x="21452" y="10294"/>
                  <a:pt x="21530" y="10468"/>
                </a:cubicBezTo>
                <a:cubicBezTo>
                  <a:pt x="21636" y="10376"/>
                  <a:pt x="21685" y="10317"/>
                  <a:pt x="21754" y="10195"/>
                </a:cubicBezTo>
                <a:cubicBezTo>
                  <a:pt x="21769" y="10331"/>
                  <a:pt x="21847" y="10418"/>
                  <a:pt x="22002" y="10344"/>
                </a:cubicBezTo>
                <a:cubicBezTo>
                  <a:pt x="22265" y="10218"/>
                  <a:pt x="22266" y="9867"/>
                  <a:pt x="22275" y="9624"/>
                </a:cubicBezTo>
                <a:cubicBezTo>
                  <a:pt x="22275" y="9591"/>
                  <a:pt x="22275" y="9558"/>
                  <a:pt x="22275" y="9525"/>
                </a:cubicBezTo>
                <a:cubicBezTo>
                  <a:pt x="22121" y="9648"/>
                  <a:pt x="22063" y="9728"/>
                  <a:pt x="22076" y="9971"/>
                </a:cubicBezTo>
                <a:cubicBezTo>
                  <a:pt x="22091" y="10246"/>
                  <a:pt x="22236" y="10330"/>
                  <a:pt x="22473" y="10344"/>
                </a:cubicBezTo>
              </a:path>
              <a:path w="5508" h="2581">
                <a:moveTo>
                  <a:pt x="19819" y="10368"/>
                </a:moveTo>
                <a:cubicBezTo>
                  <a:pt x="19711" y="10390"/>
                  <a:pt x="19685" y="10403"/>
                  <a:pt x="19621" y="10368"/>
                </a:cubicBezTo>
                <a:cubicBezTo>
                  <a:pt x="19666" y="10309"/>
                  <a:pt x="20137" y="10195"/>
                  <a:pt x="20290" y="10170"/>
                </a:cubicBezTo>
                <a:cubicBezTo>
                  <a:pt x="20340" y="10170"/>
                  <a:pt x="20389" y="10170"/>
                  <a:pt x="20439" y="101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9720" y="3205080"/>
            <a:ext cx="849240" cy="509760"/>
          </a:xfrm>
          <a:custGeom>
            <a:avLst/>
            <a:gdLst/>
            <a:ahLst/>
            <a:rect l="l" t="t" r="r" b="b"/>
            <a:pathLst>
              <a:path w="2357" h="1415">
                <a:moveTo>
                  <a:pt x="15925" y="10195"/>
                </a:moveTo>
                <a:cubicBezTo>
                  <a:pt x="16415" y="10304"/>
                  <a:pt x="16899" y="10349"/>
                  <a:pt x="17388" y="10170"/>
                </a:cubicBezTo>
                <a:cubicBezTo>
                  <a:pt x="17848" y="10002"/>
                  <a:pt x="18148" y="9466"/>
                  <a:pt x="17636" y="9128"/>
                </a:cubicBezTo>
                <a:cubicBezTo>
                  <a:pt x="17065" y="8751"/>
                  <a:pt x="15984" y="8777"/>
                  <a:pt x="15602" y="9426"/>
                </a:cubicBezTo>
                <a:cubicBezTo>
                  <a:pt x="15118" y="10248"/>
                  <a:pt x="16045" y="10274"/>
                  <a:pt x="16495" y="101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0240" y="1785960"/>
            <a:ext cx="982800" cy="635040"/>
          </a:xfrm>
          <a:custGeom>
            <a:avLst/>
            <a:gdLst/>
            <a:ahLst/>
            <a:rect l="l" t="t" r="r" b="b"/>
            <a:pathLst>
              <a:path w="2729" h="1762">
                <a:moveTo>
                  <a:pt x="18628" y="6722"/>
                </a:moveTo>
                <a:cubicBezTo>
                  <a:pt x="19103" y="6722"/>
                  <a:pt x="19565" y="6726"/>
                  <a:pt x="20017" y="6548"/>
                </a:cubicBezTo>
                <a:cubicBezTo>
                  <a:pt x="20385" y="6403"/>
                  <a:pt x="21014" y="5867"/>
                  <a:pt x="20811" y="5383"/>
                </a:cubicBezTo>
                <a:cubicBezTo>
                  <a:pt x="20570" y="4807"/>
                  <a:pt x="19238" y="4913"/>
                  <a:pt x="18802" y="5060"/>
                </a:cubicBezTo>
                <a:cubicBezTo>
                  <a:pt x="18246" y="5247"/>
                  <a:pt x="17649" y="6174"/>
                  <a:pt x="18504" y="6449"/>
                </a:cubicBezTo>
                <a:cubicBezTo>
                  <a:pt x="18922" y="6421"/>
                  <a:pt x="19089" y="6395"/>
                  <a:pt x="19348" y="62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61000" y="5446800"/>
            <a:ext cx="1652760" cy="492120"/>
          </a:xfrm>
          <a:custGeom>
            <a:avLst/>
            <a:gdLst/>
            <a:ahLst/>
            <a:rect l="l" t="t" r="r" b="b"/>
            <a:pathLst>
              <a:path w="4590" h="1365">
                <a:moveTo>
                  <a:pt x="15726" y="16495"/>
                </a:moveTo>
                <a:cubicBezTo>
                  <a:pt x="15892" y="16305"/>
                  <a:pt x="15956" y="16073"/>
                  <a:pt x="16073" y="15850"/>
                </a:cubicBezTo>
                <a:cubicBezTo>
                  <a:pt x="16107" y="15785"/>
                  <a:pt x="16192" y="15622"/>
                  <a:pt x="16247" y="15577"/>
                </a:cubicBezTo>
                <a:cubicBezTo>
                  <a:pt x="16359" y="15817"/>
                  <a:pt x="16503" y="16094"/>
                  <a:pt x="16321" y="16346"/>
                </a:cubicBezTo>
                <a:cubicBezTo>
                  <a:pt x="16223" y="16482"/>
                  <a:pt x="16007" y="16485"/>
                  <a:pt x="15875" y="16396"/>
                </a:cubicBezTo>
                <a:cubicBezTo>
                  <a:pt x="15927" y="16396"/>
                  <a:pt x="15954" y="16415"/>
                  <a:pt x="15974" y="16470"/>
                </a:cubicBezTo>
                <a:cubicBezTo>
                  <a:pt x="16278" y="16440"/>
                  <a:pt x="16307" y="16316"/>
                  <a:pt x="16446" y="16049"/>
                </a:cubicBezTo>
              </a:path>
              <a:path w="4590" h="1365">
                <a:moveTo>
                  <a:pt x="16818" y="15974"/>
                </a:moveTo>
                <a:cubicBezTo>
                  <a:pt x="16863" y="15897"/>
                  <a:pt x="16850" y="15786"/>
                  <a:pt x="16768" y="15726"/>
                </a:cubicBezTo>
                <a:cubicBezTo>
                  <a:pt x="16743" y="15718"/>
                  <a:pt x="16719" y="15709"/>
                  <a:pt x="16694" y="15701"/>
                </a:cubicBezTo>
                <a:cubicBezTo>
                  <a:pt x="16510" y="15871"/>
                  <a:pt x="16372" y="16111"/>
                  <a:pt x="16495" y="16371"/>
                </a:cubicBezTo>
                <a:cubicBezTo>
                  <a:pt x="16623" y="16641"/>
                  <a:pt x="16889" y="16247"/>
                  <a:pt x="16942" y="16173"/>
                </a:cubicBezTo>
              </a:path>
              <a:path w="4590" h="1365">
                <a:moveTo>
                  <a:pt x="17363" y="16024"/>
                </a:moveTo>
                <a:cubicBezTo>
                  <a:pt x="17351" y="15909"/>
                  <a:pt x="17380" y="15800"/>
                  <a:pt x="17214" y="15751"/>
                </a:cubicBezTo>
                <a:cubicBezTo>
                  <a:pt x="17181" y="15751"/>
                  <a:pt x="17148" y="15751"/>
                  <a:pt x="17115" y="15751"/>
                </a:cubicBezTo>
                <a:cubicBezTo>
                  <a:pt x="17059" y="15814"/>
                  <a:pt x="16766" y="16214"/>
                  <a:pt x="17016" y="16272"/>
                </a:cubicBezTo>
                <a:cubicBezTo>
                  <a:pt x="17191" y="16313"/>
                  <a:pt x="17301" y="16007"/>
                  <a:pt x="17338" y="15900"/>
                </a:cubicBezTo>
                <a:cubicBezTo>
                  <a:pt x="17350" y="16049"/>
                  <a:pt x="17366" y="16167"/>
                  <a:pt x="17537" y="16197"/>
                </a:cubicBezTo>
                <a:cubicBezTo>
                  <a:pt x="17748" y="16234"/>
                  <a:pt x="17912" y="16035"/>
                  <a:pt x="17959" y="15850"/>
                </a:cubicBezTo>
                <a:cubicBezTo>
                  <a:pt x="18013" y="15640"/>
                  <a:pt x="17999" y="15285"/>
                  <a:pt x="17785" y="15156"/>
                </a:cubicBezTo>
                <a:cubicBezTo>
                  <a:pt x="17673" y="15133"/>
                  <a:pt x="17642" y="15118"/>
                  <a:pt x="17587" y="15180"/>
                </a:cubicBezTo>
                <a:cubicBezTo>
                  <a:pt x="17555" y="15502"/>
                  <a:pt x="17518" y="15925"/>
                  <a:pt x="17810" y="16148"/>
                </a:cubicBezTo>
                <a:cubicBezTo>
                  <a:pt x="18015" y="16305"/>
                  <a:pt x="18322" y="16106"/>
                  <a:pt x="18479" y="15974"/>
                </a:cubicBezTo>
                <a:cubicBezTo>
                  <a:pt x="18632" y="15845"/>
                  <a:pt x="18607" y="15802"/>
                  <a:pt x="18529" y="15677"/>
                </a:cubicBezTo>
                <a:cubicBezTo>
                  <a:pt x="18364" y="15710"/>
                  <a:pt x="18244" y="15853"/>
                  <a:pt x="18355" y="16049"/>
                </a:cubicBezTo>
                <a:cubicBezTo>
                  <a:pt x="18446" y="16210"/>
                  <a:pt x="18766" y="16093"/>
                  <a:pt x="18876" y="16024"/>
                </a:cubicBezTo>
                <a:cubicBezTo>
                  <a:pt x="18961" y="15970"/>
                  <a:pt x="19025" y="15799"/>
                  <a:pt x="19025" y="15801"/>
                </a:cubicBezTo>
                <a:cubicBezTo>
                  <a:pt x="19025" y="15875"/>
                  <a:pt x="19025" y="15933"/>
                  <a:pt x="19025" y="15999"/>
                </a:cubicBezTo>
                <a:cubicBezTo>
                  <a:pt x="18930" y="16154"/>
                  <a:pt x="19008" y="15907"/>
                  <a:pt x="19025" y="15850"/>
                </a:cubicBezTo>
                <a:cubicBezTo>
                  <a:pt x="19067" y="15711"/>
                  <a:pt x="19107" y="15685"/>
                  <a:pt x="19224" y="15627"/>
                </a:cubicBezTo>
                <a:cubicBezTo>
                  <a:pt x="19372" y="15753"/>
                  <a:pt x="19336" y="15832"/>
                  <a:pt x="19372" y="16024"/>
                </a:cubicBezTo>
                <a:cubicBezTo>
                  <a:pt x="19380" y="16049"/>
                  <a:pt x="19389" y="16073"/>
                  <a:pt x="19397" y="16098"/>
                </a:cubicBezTo>
                <a:cubicBezTo>
                  <a:pt x="19545" y="16076"/>
                  <a:pt x="19742" y="16025"/>
                  <a:pt x="19844" y="15900"/>
                </a:cubicBezTo>
                <a:cubicBezTo>
                  <a:pt x="19929" y="15795"/>
                  <a:pt x="19934" y="15677"/>
                  <a:pt x="19943" y="15553"/>
                </a:cubicBezTo>
                <a:cubicBezTo>
                  <a:pt x="19841" y="15625"/>
                  <a:pt x="19699" y="15689"/>
                  <a:pt x="19794" y="15925"/>
                </a:cubicBezTo>
                <a:cubicBezTo>
                  <a:pt x="19886" y="16155"/>
                  <a:pt x="20157" y="16044"/>
                  <a:pt x="20315" y="159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41920" y="1768320"/>
            <a:ext cx="849240" cy="625680"/>
          </a:xfrm>
          <a:custGeom>
            <a:avLst/>
            <a:gdLst/>
            <a:ahLst/>
            <a:rect l="l" t="t" r="r" b="b"/>
            <a:pathLst>
              <a:path w="2358" h="1738">
                <a:moveTo>
                  <a:pt x="13519" y="6325"/>
                </a:moveTo>
                <a:cubicBezTo>
                  <a:pt x="13935" y="6498"/>
                  <a:pt x="14210" y="6624"/>
                  <a:pt x="14684" y="6524"/>
                </a:cubicBezTo>
                <a:cubicBezTo>
                  <a:pt x="15189" y="6417"/>
                  <a:pt x="15747" y="5905"/>
                  <a:pt x="15478" y="5333"/>
                </a:cubicBezTo>
                <a:cubicBezTo>
                  <a:pt x="15140" y="4613"/>
                  <a:pt x="13922" y="4904"/>
                  <a:pt x="13494" y="5358"/>
                </a:cubicBezTo>
                <a:cubicBezTo>
                  <a:pt x="12872" y="6018"/>
                  <a:pt x="13123" y="6658"/>
                  <a:pt x="13965" y="6648"/>
                </a:cubicBezTo>
                <a:cubicBezTo>
                  <a:pt x="14139" y="6623"/>
                  <a:pt x="14312" y="6598"/>
                  <a:pt x="14486" y="65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21081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750" y="5854"/>
                </a:moveTo>
                <a:lnTo>
                  <a:pt x="12750" y="5854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95880" y="2054160"/>
            <a:ext cx="1839960" cy="438120"/>
          </a:xfrm>
          <a:custGeom>
            <a:avLst/>
            <a:gdLst/>
            <a:ahLst/>
            <a:rect l="l" t="t" r="r" b="b"/>
            <a:pathLst>
              <a:path w="5111" h="1217">
                <a:moveTo>
                  <a:pt x="11981" y="6350"/>
                </a:moveTo>
                <a:cubicBezTo>
                  <a:pt x="11981" y="6476"/>
                  <a:pt x="11970" y="6622"/>
                  <a:pt x="11956" y="6747"/>
                </a:cubicBezTo>
                <a:cubicBezTo>
                  <a:pt x="11935" y="6853"/>
                  <a:pt x="11913" y="6881"/>
                  <a:pt x="11981" y="6921"/>
                </a:cubicBezTo>
                <a:cubicBezTo>
                  <a:pt x="12251" y="6836"/>
                  <a:pt x="12360" y="6615"/>
                  <a:pt x="12551" y="6400"/>
                </a:cubicBezTo>
                <a:cubicBezTo>
                  <a:pt x="12641" y="6309"/>
                  <a:pt x="12662" y="6279"/>
                  <a:pt x="12750" y="6276"/>
                </a:cubicBezTo>
                <a:cubicBezTo>
                  <a:pt x="12832" y="6441"/>
                  <a:pt x="12989" y="6692"/>
                  <a:pt x="12725" y="6796"/>
                </a:cubicBezTo>
                <a:cubicBezTo>
                  <a:pt x="12620" y="6837"/>
                  <a:pt x="12344" y="6754"/>
                  <a:pt x="12378" y="6772"/>
                </a:cubicBezTo>
                <a:cubicBezTo>
                  <a:pt x="12411" y="6788"/>
                  <a:pt x="12444" y="6805"/>
                  <a:pt x="12477" y="6821"/>
                </a:cubicBezTo>
              </a:path>
              <a:path w="5111" h="1217">
                <a:moveTo>
                  <a:pt x="13171" y="6251"/>
                </a:moveTo>
                <a:cubicBezTo>
                  <a:pt x="13059" y="6331"/>
                  <a:pt x="13036" y="6358"/>
                  <a:pt x="12998" y="6524"/>
                </a:cubicBezTo>
                <a:cubicBezTo>
                  <a:pt x="12965" y="6670"/>
                  <a:pt x="12967" y="6888"/>
                  <a:pt x="13171" y="6747"/>
                </a:cubicBezTo>
                <a:cubicBezTo>
                  <a:pt x="13264" y="6632"/>
                  <a:pt x="13297" y="6603"/>
                  <a:pt x="13271" y="6499"/>
                </a:cubicBezTo>
                <a:cubicBezTo>
                  <a:pt x="13232" y="6422"/>
                  <a:pt x="13233" y="6407"/>
                  <a:pt x="13196" y="6375"/>
                </a:cubicBezTo>
                <a:cubicBezTo>
                  <a:pt x="13193" y="6413"/>
                  <a:pt x="13154" y="6578"/>
                  <a:pt x="13295" y="6598"/>
                </a:cubicBezTo>
                <a:cubicBezTo>
                  <a:pt x="13465" y="6622"/>
                  <a:pt x="13611" y="6420"/>
                  <a:pt x="13742" y="6350"/>
                </a:cubicBezTo>
                <a:cubicBezTo>
                  <a:pt x="13807" y="6464"/>
                  <a:pt x="13894" y="6588"/>
                  <a:pt x="13816" y="6722"/>
                </a:cubicBezTo>
                <a:cubicBezTo>
                  <a:pt x="13709" y="6906"/>
                  <a:pt x="13524" y="6707"/>
                  <a:pt x="13444" y="6648"/>
                </a:cubicBezTo>
                <a:cubicBezTo>
                  <a:pt x="13422" y="6626"/>
                  <a:pt x="13417" y="6617"/>
                  <a:pt x="13395" y="6623"/>
                </a:cubicBezTo>
                <a:cubicBezTo>
                  <a:pt x="13522" y="6750"/>
                  <a:pt x="13583" y="6879"/>
                  <a:pt x="13791" y="6796"/>
                </a:cubicBezTo>
                <a:cubicBezTo>
                  <a:pt x="13946" y="6734"/>
                  <a:pt x="14122" y="6276"/>
                  <a:pt x="14288" y="6325"/>
                </a:cubicBezTo>
                <a:cubicBezTo>
                  <a:pt x="14304" y="6350"/>
                  <a:pt x="14321" y="6375"/>
                  <a:pt x="14337" y="6400"/>
                </a:cubicBezTo>
                <a:cubicBezTo>
                  <a:pt x="14379" y="6472"/>
                  <a:pt x="14419" y="6389"/>
                  <a:pt x="14337" y="6375"/>
                </a:cubicBezTo>
                <a:cubicBezTo>
                  <a:pt x="14142" y="6343"/>
                  <a:pt x="14063" y="6628"/>
                  <a:pt x="14039" y="6747"/>
                </a:cubicBezTo>
                <a:cubicBezTo>
                  <a:pt x="14259" y="6903"/>
                  <a:pt x="14389" y="6798"/>
                  <a:pt x="14610" y="6648"/>
                </a:cubicBezTo>
                <a:cubicBezTo>
                  <a:pt x="14772" y="6538"/>
                  <a:pt x="14766" y="6476"/>
                  <a:pt x="14784" y="6300"/>
                </a:cubicBezTo>
                <a:cubicBezTo>
                  <a:pt x="14603" y="6287"/>
                  <a:pt x="14492" y="6441"/>
                  <a:pt x="14536" y="6648"/>
                </a:cubicBezTo>
                <a:cubicBezTo>
                  <a:pt x="14581" y="6857"/>
                  <a:pt x="14930" y="6823"/>
                  <a:pt x="15056" y="6747"/>
                </a:cubicBezTo>
                <a:cubicBezTo>
                  <a:pt x="15319" y="6588"/>
                  <a:pt x="15519" y="6185"/>
                  <a:pt x="15503" y="5879"/>
                </a:cubicBezTo>
                <a:cubicBezTo>
                  <a:pt x="15456" y="5762"/>
                  <a:pt x="15446" y="5724"/>
                  <a:pt x="15354" y="5705"/>
                </a:cubicBezTo>
                <a:cubicBezTo>
                  <a:pt x="15149" y="5902"/>
                  <a:pt x="15103" y="5971"/>
                  <a:pt x="15081" y="6300"/>
                </a:cubicBezTo>
                <a:cubicBezTo>
                  <a:pt x="15066" y="6527"/>
                  <a:pt x="15055" y="6830"/>
                  <a:pt x="15354" y="6796"/>
                </a:cubicBezTo>
                <a:cubicBezTo>
                  <a:pt x="15589" y="6769"/>
                  <a:pt x="15742" y="6607"/>
                  <a:pt x="15925" y="6474"/>
                </a:cubicBezTo>
                <a:cubicBezTo>
                  <a:pt x="15968" y="6387"/>
                  <a:pt x="15994" y="6364"/>
                  <a:pt x="15925" y="6325"/>
                </a:cubicBezTo>
                <a:cubicBezTo>
                  <a:pt x="15742" y="6411"/>
                  <a:pt x="15742" y="6435"/>
                  <a:pt x="15677" y="6623"/>
                </a:cubicBezTo>
                <a:cubicBezTo>
                  <a:pt x="15808" y="6848"/>
                  <a:pt x="15937" y="6843"/>
                  <a:pt x="16173" y="6697"/>
                </a:cubicBezTo>
                <a:cubicBezTo>
                  <a:pt x="16250" y="6650"/>
                  <a:pt x="16575" y="6221"/>
                  <a:pt x="16669" y="6251"/>
                </a:cubicBezTo>
                <a:cubicBezTo>
                  <a:pt x="16804" y="6294"/>
                  <a:pt x="16800" y="6600"/>
                  <a:pt x="16669" y="6648"/>
                </a:cubicBezTo>
                <a:cubicBezTo>
                  <a:pt x="16628" y="6648"/>
                  <a:pt x="16586" y="6648"/>
                  <a:pt x="16545" y="6648"/>
                </a:cubicBezTo>
                <a:cubicBezTo>
                  <a:pt x="16512" y="6631"/>
                  <a:pt x="16479" y="6615"/>
                  <a:pt x="16446" y="6598"/>
                </a:cubicBezTo>
                <a:cubicBezTo>
                  <a:pt x="16538" y="6637"/>
                  <a:pt x="16550" y="6658"/>
                  <a:pt x="16644" y="6623"/>
                </a:cubicBezTo>
                <a:cubicBezTo>
                  <a:pt x="16766" y="6577"/>
                  <a:pt x="17224" y="6205"/>
                  <a:pt x="16991" y="6052"/>
                </a:cubicBezTo>
                <a:cubicBezTo>
                  <a:pt x="16933" y="6044"/>
                  <a:pt x="16876" y="6036"/>
                  <a:pt x="16818" y="60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49880" y="3187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585" y="8855"/>
                </a:moveTo>
                <a:lnTo>
                  <a:pt x="14585" y="8855"/>
                </a:lnTo>
                <a:lnTo>
                  <a:pt x="14585" y="885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06920" y="3009960"/>
            <a:ext cx="2152800" cy="731880"/>
          </a:xfrm>
          <a:custGeom>
            <a:avLst/>
            <a:gdLst/>
            <a:ahLst/>
            <a:rect l="l" t="t" r="r" b="b"/>
            <a:pathLst>
              <a:path w="5979" h="2035">
                <a:moveTo>
                  <a:pt x="12799" y="9599"/>
                </a:moveTo>
                <a:cubicBezTo>
                  <a:pt x="12933" y="9711"/>
                  <a:pt x="13087" y="9697"/>
                  <a:pt x="13246" y="9624"/>
                </a:cubicBezTo>
                <a:cubicBezTo>
                  <a:pt x="13401" y="9553"/>
                  <a:pt x="13701" y="9332"/>
                  <a:pt x="13618" y="9128"/>
                </a:cubicBezTo>
                <a:cubicBezTo>
                  <a:pt x="13547" y="8953"/>
                  <a:pt x="13337" y="9107"/>
                  <a:pt x="13295" y="9203"/>
                </a:cubicBezTo>
                <a:cubicBezTo>
                  <a:pt x="13201" y="9419"/>
                  <a:pt x="13335" y="9650"/>
                  <a:pt x="13568" y="9624"/>
                </a:cubicBezTo>
                <a:cubicBezTo>
                  <a:pt x="13707" y="9578"/>
                  <a:pt x="13748" y="9569"/>
                  <a:pt x="13816" y="9500"/>
                </a:cubicBezTo>
              </a:path>
              <a:path w="5979" h="2035">
                <a:moveTo>
                  <a:pt x="14163" y="9203"/>
                </a:moveTo>
                <a:cubicBezTo>
                  <a:pt x="14122" y="9125"/>
                  <a:pt x="14105" y="8975"/>
                  <a:pt x="13965" y="9054"/>
                </a:cubicBezTo>
                <a:cubicBezTo>
                  <a:pt x="13802" y="9146"/>
                  <a:pt x="13752" y="9268"/>
                  <a:pt x="13692" y="9426"/>
                </a:cubicBezTo>
                <a:cubicBezTo>
                  <a:pt x="13911" y="9460"/>
                  <a:pt x="14050" y="9382"/>
                  <a:pt x="14188" y="9178"/>
                </a:cubicBezTo>
                <a:cubicBezTo>
                  <a:pt x="14209" y="9148"/>
                  <a:pt x="14164" y="9215"/>
                  <a:pt x="14163" y="9178"/>
                </a:cubicBezTo>
                <a:cubicBezTo>
                  <a:pt x="14097" y="9589"/>
                  <a:pt x="13952" y="9985"/>
                  <a:pt x="13891" y="10393"/>
                </a:cubicBezTo>
                <a:cubicBezTo>
                  <a:pt x="14047" y="10308"/>
                  <a:pt x="14188" y="10250"/>
                  <a:pt x="14188" y="10021"/>
                </a:cubicBezTo>
                <a:cubicBezTo>
                  <a:pt x="14188" y="9719"/>
                  <a:pt x="13803" y="9787"/>
                  <a:pt x="13618" y="9798"/>
                </a:cubicBezTo>
                <a:cubicBezTo>
                  <a:pt x="13610" y="9798"/>
                  <a:pt x="13601" y="9798"/>
                  <a:pt x="13593" y="9798"/>
                </a:cubicBezTo>
                <a:cubicBezTo>
                  <a:pt x="13917" y="9707"/>
                  <a:pt x="14187" y="9586"/>
                  <a:pt x="14436" y="9351"/>
                </a:cubicBezTo>
                <a:cubicBezTo>
                  <a:pt x="14510" y="9260"/>
                  <a:pt x="14514" y="9248"/>
                  <a:pt x="14560" y="9203"/>
                </a:cubicBezTo>
                <a:cubicBezTo>
                  <a:pt x="14547" y="9316"/>
                  <a:pt x="14520" y="9369"/>
                  <a:pt x="14610" y="9451"/>
                </a:cubicBezTo>
                <a:cubicBezTo>
                  <a:pt x="14716" y="9549"/>
                  <a:pt x="14874" y="9231"/>
                  <a:pt x="14908" y="9178"/>
                </a:cubicBezTo>
                <a:cubicBezTo>
                  <a:pt x="14897" y="9258"/>
                  <a:pt x="14846" y="9372"/>
                  <a:pt x="14982" y="9376"/>
                </a:cubicBezTo>
                <a:cubicBezTo>
                  <a:pt x="15133" y="9381"/>
                  <a:pt x="15217" y="9256"/>
                  <a:pt x="15280" y="9153"/>
                </a:cubicBezTo>
                <a:cubicBezTo>
                  <a:pt x="15280" y="9145"/>
                  <a:pt x="15280" y="9136"/>
                  <a:pt x="15280" y="9128"/>
                </a:cubicBezTo>
                <a:cubicBezTo>
                  <a:pt x="15302" y="9226"/>
                  <a:pt x="15288" y="9392"/>
                  <a:pt x="15429" y="9401"/>
                </a:cubicBezTo>
                <a:cubicBezTo>
                  <a:pt x="15597" y="9412"/>
                  <a:pt x="15800" y="9271"/>
                  <a:pt x="15875" y="9128"/>
                </a:cubicBezTo>
                <a:cubicBezTo>
                  <a:pt x="15991" y="8906"/>
                  <a:pt x="15890" y="8782"/>
                  <a:pt x="15726" y="8657"/>
                </a:cubicBezTo>
                <a:cubicBezTo>
                  <a:pt x="15534" y="8674"/>
                  <a:pt x="15578" y="8944"/>
                  <a:pt x="15627" y="9128"/>
                </a:cubicBezTo>
                <a:cubicBezTo>
                  <a:pt x="15705" y="9421"/>
                  <a:pt x="15864" y="9460"/>
                  <a:pt x="16123" y="9451"/>
                </a:cubicBezTo>
              </a:path>
              <a:path w="5979" h="2035">
                <a:moveTo>
                  <a:pt x="16470" y="9054"/>
                </a:moveTo>
                <a:cubicBezTo>
                  <a:pt x="16354" y="8935"/>
                  <a:pt x="16243" y="9070"/>
                  <a:pt x="16173" y="9203"/>
                </a:cubicBezTo>
                <a:cubicBezTo>
                  <a:pt x="16165" y="9236"/>
                  <a:pt x="16156" y="9269"/>
                  <a:pt x="16148" y="9302"/>
                </a:cubicBezTo>
                <a:cubicBezTo>
                  <a:pt x="16305" y="9373"/>
                  <a:pt x="16363" y="9298"/>
                  <a:pt x="16495" y="9178"/>
                </a:cubicBezTo>
                <a:cubicBezTo>
                  <a:pt x="16509" y="9234"/>
                  <a:pt x="16528" y="9317"/>
                  <a:pt x="16619" y="9302"/>
                </a:cubicBezTo>
                <a:cubicBezTo>
                  <a:pt x="16833" y="9267"/>
                  <a:pt x="16847" y="8889"/>
                  <a:pt x="16818" y="8731"/>
                </a:cubicBezTo>
                <a:cubicBezTo>
                  <a:pt x="16801" y="8698"/>
                  <a:pt x="16785" y="8665"/>
                  <a:pt x="16768" y="8632"/>
                </a:cubicBezTo>
                <a:cubicBezTo>
                  <a:pt x="16650" y="8603"/>
                  <a:pt x="16709" y="8901"/>
                  <a:pt x="16718" y="8979"/>
                </a:cubicBezTo>
                <a:cubicBezTo>
                  <a:pt x="16734" y="9119"/>
                  <a:pt x="16797" y="9334"/>
                  <a:pt x="16991" y="9227"/>
                </a:cubicBezTo>
                <a:cubicBezTo>
                  <a:pt x="17124" y="9154"/>
                  <a:pt x="17141" y="9087"/>
                  <a:pt x="17165" y="8954"/>
                </a:cubicBezTo>
                <a:cubicBezTo>
                  <a:pt x="17150" y="8976"/>
                  <a:pt x="16998" y="9127"/>
                  <a:pt x="17115" y="9178"/>
                </a:cubicBezTo>
                <a:cubicBezTo>
                  <a:pt x="17304" y="9261"/>
                  <a:pt x="17319" y="8986"/>
                  <a:pt x="17413" y="8930"/>
                </a:cubicBezTo>
                <a:cubicBezTo>
                  <a:pt x="17485" y="8888"/>
                  <a:pt x="17456" y="9098"/>
                  <a:pt x="17487" y="9128"/>
                </a:cubicBezTo>
                <a:cubicBezTo>
                  <a:pt x="17534" y="9128"/>
                  <a:pt x="17560" y="9140"/>
                  <a:pt x="17587" y="9178"/>
                </a:cubicBezTo>
              </a:path>
              <a:path w="5979" h="2035">
                <a:moveTo>
                  <a:pt x="18058" y="8880"/>
                </a:moveTo>
                <a:cubicBezTo>
                  <a:pt x="17843" y="8900"/>
                  <a:pt x="17784" y="8988"/>
                  <a:pt x="17661" y="9153"/>
                </a:cubicBezTo>
                <a:cubicBezTo>
                  <a:pt x="17765" y="9216"/>
                  <a:pt x="17835" y="8984"/>
                  <a:pt x="17934" y="9054"/>
                </a:cubicBezTo>
                <a:cubicBezTo>
                  <a:pt x="18020" y="9115"/>
                  <a:pt x="17950" y="9266"/>
                  <a:pt x="18157" y="9203"/>
                </a:cubicBezTo>
                <a:cubicBezTo>
                  <a:pt x="18410" y="9126"/>
                  <a:pt x="18623" y="8759"/>
                  <a:pt x="18628" y="8508"/>
                </a:cubicBezTo>
                <a:cubicBezTo>
                  <a:pt x="18579" y="8409"/>
                  <a:pt x="18562" y="8375"/>
                  <a:pt x="18479" y="8359"/>
                </a:cubicBezTo>
                <a:cubicBezTo>
                  <a:pt x="18280" y="8559"/>
                  <a:pt x="18182" y="8815"/>
                  <a:pt x="18405" y="9079"/>
                </a:cubicBezTo>
                <a:cubicBezTo>
                  <a:pt x="18523" y="9218"/>
                  <a:pt x="18631" y="9182"/>
                  <a:pt x="18777" y="9153"/>
                </a:cubicBezTo>
              </a:path>
              <a:path w="5979" h="2035">
                <a:moveTo>
                  <a:pt x="16272" y="8806"/>
                </a:moveTo>
                <a:cubicBezTo>
                  <a:pt x="16520" y="8749"/>
                  <a:pt x="16762" y="8680"/>
                  <a:pt x="17016" y="865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5880" y="1901880"/>
            <a:ext cx="1741320" cy="598320"/>
          </a:xfrm>
          <a:custGeom>
            <a:avLst/>
            <a:gdLst/>
            <a:ahLst/>
            <a:rect l="l" t="t" r="r" b="b"/>
            <a:pathLst>
              <a:path w="4838" h="1663">
                <a:moveTo>
                  <a:pt x="5904" y="6772"/>
                </a:moveTo>
                <a:cubicBezTo>
                  <a:pt x="6309" y="6855"/>
                  <a:pt x="6689" y="6869"/>
                  <a:pt x="7094" y="6747"/>
                </a:cubicBezTo>
                <a:cubicBezTo>
                  <a:pt x="7453" y="6639"/>
                  <a:pt x="7739" y="6454"/>
                  <a:pt x="7764" y="6052"/>
                </a:cubicBezTo>
                <a:cubicBezTo>
                  <a:pt x="7785" y="5723"/>
                  <a:pt x="7556" y="5476"/>
                  <a:pt x="7268" y="5358"/>
                </a:cubicBezTo>
                <a:cubicBezTo>
                  <a:pt x="6946" y="5226"/>
                  <a:pt x="6467" y="5257"/>
                  <a:pt x="6152" y="5407"/>
                </a:cubicBezTo>
                <a:cubicBezTo>
                  <a:pt x="5816" y="5567"/>
                  <a:pt x="5364" y="6174"/>
                  <a:pt x="5432" y="6573"/>
                </a:cubicBezTo>
                <a:cubicBezTo>
                  <a:pt x="5501" y="6977"/>
                  <a:pt x="5894" y="6918"/>
                  <a:pt x="6176" y="6945"/>
                </a:cubicBezTo>
              </a:path>
              <a:path w="4838" h="1663">
                <a:moveTo>
                  <a:pt x="8086" y="6623"/>
                </a:moveTo>
                <a:cubicBezTo>
                  <a:pt x="8468" y="6706"/>
                  <a:pt x="8835" y="6697"/>
                  <a:pt x="9227" y="6697"/>
                </a:cubicBezTo>
                <a:cubicBezTo>
                  <a:pt x="9568" y="6697"/>
                  <a:pt x="10147" y="6705"/>
                  <a:pt x="10269" y="6276"/>
                </a:cubicBezTo>
                <a:cubicBezTo>
                  <a:pt x="10377" y="5895"/>
                  <a:pt x="9715" y="5518"/>
                  <a:pt x="9451" y="5432"/>
                </a:cubicBezTo>
                <a:cubicBezTo>
                  <a:pt x="8889" y="5249"/>
                  <a:pt x="7660" y="5477"/>
                  <a:pt x="7665" y="6276"/>
                </a:cubicBezTo>
                <a:cubicBezTo>
                  <a:pt x="7669" y="6922"/>
                  <a:pt x="8549" y="6842"/>
                  <a:pt x="8954" y="6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37080" y="4303800"/>
            <a:ext cx="79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2601" y="11956"/>
                </a:moveTo>
                <a:cubicBezTo>
                  <a:pt x="12609" y="11956"/>
                  <a:pt x="12618" y="11956"/>
                  <a:pt x="12626" y="1195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64000" y="4330800"/>
            <a:ext cx="1706760" cy="366480"/>
          </a:xfrm>
          <a:custGeom>
            <a:avLst/>
            <a:gdLst/>
            <a:ahLst/>
            <a:rect l="l" t="t" r="r" b="b"/>
            <a:pathLst>
              <a:path w="4739" h="1018">
                <a:moveTo>
                  <a:pt x="12502" y="12526"/>
                </a:moveTo>
                <a:cubicBezTo>
                  <a:pt x="12489" y="12641"/>
                  <a:pt x="12490" y="12664"/>
                  <a:pt x="12452" y="12774"/>
                </a:cubicBezTo>
                <a:cubicBezTo>
                  <a:pt x="12406" y="12913"/>
                  <a:pt x="12389" y="12951"/>
                  <a:pt x="12402" y="13047"/>
                </a:cubicBezTo>
                <a:cubicBezTo>
                  <a:pt x="12631" y="12988"/>
                  <a:pt x="12711" y="12950"/>
                  <a:pt x="12874" y="12750"/>
                </a:cubicBezTo>
                <a:cubicBezTo>
                  <a:pt x="12964" y="12640"/>
                  <a:pt x="13026" y="12520"/>
                  <a:pt x="13097" y="12402"/>
                </a:cubicBezTo>
                <a:cubicBezTo>
                  <a:pt x="13171" y="12546"/>
                  <a:pt x="13340" y="12703"/>
                  <a:pt x="13146" y="12874"/>
                </a:cubicBezTo>
                <a:cubicBezTo>
                  <a:pt x="13033" y="12973"/>
                  <a:pt x="12960" y="12891"/>
                  <a:pt x="12849" y="12874"/>
                </a:cubicBezTo>
                <a:cubicBezTo>
                  <a:pt x="13008" y="12891"/>
                  <a:pt x="13120" y="12892"/>
                  <a:pt x="13271" y="12799"/>
                </a:cubicBezTo>
                <a:cubicBezTo>
                  <a:pt x="13416" y="12710"/>
                  <a:pt x="13450" y="12605"/>
                  <a:pt x="13543" y="12477"/>
                </a:cubicBezTo>
                <a:cubicBezTo>
                  <a:pt x="13484" y="12595"/>
                  <a:pt x="13380" y="12730"/>
                  <a:pt x="13395" y="12874"/>
                </a:cubicBezTo>
                <a:cubicBezTo>
                  <a:pt x="13417" y="13093"/>
                  <a:pt x="13653" y="12795"/>
                  <a:pt x="13643" y="12675"/>
                </a:cubicBezTo>
                <a:cubicBezTo>
                  <a:pt x="13626" y="12634"/>
                  <a:pt x="13610" y="12592"/>
                  <a:pt x="13593" y="12551"/>
                </a:cubicBezTo>
                <a:cubicBezTo>
                  <a:pt x="13300" y="12617"/>
                  <a:pt x="13683" y="12490"/>
                  <a:pt x="13519" y="12601"/>
                </a:cubicBezTo>
                <a:cubicBezTo>
                  <a:pt x="13787" y="12632"/>
                  <a:pt x="13833" y="12586"/>
                  <a:pt x="14089" y="12502"/>
                </a:cubicBezTo>
                <a:cubicBezTo>
                  <a:pt x="14223" y="12480"/>
                  <a:pt x="14261" y="12460"/>
                  <a:pt x="14312" y="12551"/>
                </a:cubicBezTo>
                <a:cubicBezTo>
                  <a:pt x="14289" y="12723"/>
                  <a:pt x="14268" y="12889"/>
                  <a:pt x="14039" y="12799"/>
                </a:cubicBezTo>
                <a:cubicBezTo>
                  <a:pt x="13933" y="12714"/>
                  <a:pt x="13911" y="12694"/>
                  <a:pt x="13841" y="12650"/>
                </a:cubicBezTo>
                <a:cubicBezTo>
                  <a:pt x="13890" y="12779"/>
                  <a:pt x="13918" y="12787"/>
                  <a:pt x="14139" y="12774"/>
                </a:cubicBezTo>
                <a:cubicBezTo>
                  <a:pt x="14430" y="12757"/>
                  <a:pt x="14461" y="12685"/>
                  <a:pt x="14635" y="12502"/>
                </a:cubicBezTo>
                <a:cubicBezTo>
                  <a:pt x="14707" y="12426"/>
                  <a:pt x="14631" y="12529"/>
                  <a:pt x="14660" y="12452"/>
                </a:cubicBezTo>
                <a:cubicBezTo>
                  <a:pt x="14572" y="12481"/>
                  <a:pt x="14469" y="12520"/>
                  <a:pt x="14486" y="12700"/>
                </a:cubicBezTo>
                <a:cubicBezTo>
                  <a:pt x="14511" y="12955"/>
                  <a:pt x="14917" y="12822"/>
                  <a:pt x="15032" y="12750"/>
                </a:cubicBezTo>
                <a:cubicBezTo>
                  <a:pt x="15245" y="12617"/>
                  <a:pt x="15194" y="12573"/>
                  <a:pt x="15081" y="12502"/>
                </a:cubicBezTo>
                <a:cubicBezTo>
                  <a:pt x="15006" y="12577"/>
                  <a:pt x="14889" y="12773"/>
                  <a:pt x="15032" y="12874"/>
                </a:cubicBezTo>
                <a:cubicBezTo>
                  <a:pt x="15192" y="12987"/>
                  <a:pt x="15610" y="12819"/>
                  <a:pt x="15726" y="12700"/>
                </a:cubicBezTo>
                <a:cubicBezTo>
                  <a:pt x="15836" y="12588"/>
                  <a:pt x="15905" y="12194"/>
                  <a:pt x="15801" y="12055"/>
                </a:cubicBezTo>
                <a:cubicBezTo>
                  <a:pt x="15773" y="12027"/>
                  <a:pt x="15759" y="12018"/>
                  <a:pt x="15726" y="12030"/>
                </a:cubicBezTo>
                <a:cubicBezTo>
                  <a:pt x="15572" y="12159"/>
                  <a:pt x="15520" y="12289"/>
                  <a:pt x="15553" y="12502"/>
                </a:cubicBezTo>
                <a:cubicBezTo>
                  <a:pt x="15596" y="12776"/>
                  <a:pt x="15782" y="12813"/>
                  <a:pt x="16024" y="12774"/>
                </a:cubicBezTo>
                <a:cubicBezTo>
                  <a:pt x="16298" y="12730"/>
                  <a:pt x="16351" y="12638"/>
                  <a:pt x="16470" y="12452"/>
                </a:cubicBezTo>
                <a:cubicBezTo>
                  <a:pt x="16321" y="12477"/>
                  <a:pt x="16234" y="12484"/>
                  <a:pt x="16272" y="12725"/>
                </a:cubicBezTo>
                <a:cubicBezTo>
                  <a:pt x="16315" y="12996"/>
                  <a:pt x="16630" y="12817"/>
                  <a:pt x="16743" y="12725"/>
                </a:cubicBezTo>
                <a:cubicBezTo>
                  <a:pt x="16829" y="12655"/>
                  <a:pt x="16949" y="12401"/>
                  <a:pt x="17066" y="12452"/>
                </a:cubicBezTo>
                <a:cubicBezTo>
                  <a:pt x="17082" y="12477"/>
                  <a:pt x="17099" y="12501"/>
                  <a:pt x="17115" y="12526"/>
                </a:cubicBezTo>
                <a:cubicBezTo>
                  <a:pt x="17134" y="12681"/>
                  <a:pt x="17139" y="12788"/>
                  <a:pt x="16942" y="12774"/>
                </a:cubicBezTo>
                <a:cubicBezTo>
                  <a:pt x="16826" y="12751"/>
                  <a:pt x="16792" y="12745"/>
                  <a:pt x="16718" y="127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9080" y="5429160"/>
            <a:ext cx="1608120" cy="357120"/>
          </a:xfrm>
          <a:custGeom>
            <a:avLst/>
            <a:gdLst/>
            <a:ahLst/>
            <a:rect l="l" t="t" r="r" b="b"/>
            <a:pathLst>
              <a:path w="4466" h="993">
                <a:moveTo>
                  <a:pt x="12303" y="16073"/>
                </a:moveTo>
                <a:cubicBezTo>
                  <a:pt x="12519" y="15921"/>
                  <a:pt x="12621" y="15776"/>
                  <a:pt x="12725" y="15528"/>
                </a:cubicBezTo>
                <a:cubicBezTo>
                  <a:pt x="12760" y="15421"/>
                  <a:pt x="12777" y="15415"/>
                  <a:pt x="12774" y="15354"/>
                </a:cubicBezTo>
                <a:cubicBezTo>
                  <a:pt x="12893" y="15538"/>
                  <a:pt x="13026" y="15811"/>
                  <a:pt x="12824" y="15999"/>
                </a:cubicBezTo>
                <a:cubicBezTo>
                  <a:pt x="12664" y="16148"/>
                  <a:pt x="12545" y="15974"/>
                  <a:pt x="12427" y="15974"/>
                </a:cubicBezTo>
                <a:cubicBezTo>
                  <a:pt x="12427" y="15982"/>
                  <a:pt x="12427" y="15991"/>
                  <a:pt x="12427" y="15999"/>
                </a:cubicBezTo>
                <a:cubicBezTo>
                  <a:pt x="12651" y="16089"/>
                  <a:pt x="12827" y="16034"/>
                  <a:pt x="13022" y="15875"/>
                </a:cubicBezTo>
                <a:cubicBezTo>
                  <a:pt x="13122" y="15794"/>
                  <a:pt x="13325" y="15465"/>
                  <a:pt x="13395" y="15528"/>
                </a:cubicBezTo>
                <a:cubicBezTo>
                  <a:pt x="13463" y="15596"/>
                  <a:pt x="13485" y="15613"/>
                  <a:pt x="13494" y="15677"/>
                </a:cubicBezTo>
                <a:cubicBezTo>
                  <a:pt x="13477" y="15594"/>
                  <a:pt x="13444" y="15572"/>
                  <a:pt x="13395" y="15503"/>
                </a:cubicBezTo>
                <a:cubicBezTo>
                  <a:pt x="13209" y="15546"/>
                  <a:pt x="13094" y="15741"/>
                  <a:pt x="13171" y="15949"/>
                </a:cubicBezTo>
                <a:cubicBezTo>
                  <a:pt x="13255" y="16177"/>
                  <a:pt x="13526" y="15992"/>
                  <a:pt x="13643" y="15949"/>
                </a:cubicBezTo>
              </a:path>
              <a:path w="4466" h="993">
                <a:moveTo>
                  <a:pt x="14015" y="15726"/>
                </a:moveTo>
                <a:cubicBezTo>
                  <a:pt x="14069" y="15638"/>
                  <a:pt x="14075" y="15713"/>
                  <a:pt x="14064" y="15553"/>
                </a:cubicBezTo>
                <a:cubicBezTo>
                  <a:pt x="13868" y="15507"/>
                  <a:pt x="13695" y="15603"/>
                  <a:pt x="13643" y="15825"/>
                </a:cubicBezTo>
                <a:cubicBezTo>
                  <a:pt x="13565" y="16158"/>
                  <a:pt x="13908" y="15958"/>
                  <a:pt x="13990" y="15850"/>
                </a:cubicBezTo>
                <a:cubicBezTo>
                  <a:pt x="14044" y="15760"/>
                  <a:pt x="14068" y="15759"/>
                  <a:pt x="14064" y="15701"/>
                </a:cubicBezTo>
                <a:cubicBezTo>
                  <a:pt x="14072" y="15795"/>
                  <a:pt x="14068" y="15864"/>
                  <a:pt x="14114" y="15974"/>
                </a:cubicBezTo>
                <a:cubicBezTo>
                  <a:pt x="14424" y="15974"/>
                  <a:pt x="14579" y="15900"/>
                  <a:pt x="14734" y="15602"/>
                </a:cubicBezTo>
                <a:cubicBezTo>
                  <a:pt x="14828" y="15421"/>
                  <a:pt x="14885" y="15223"/>
                  <a:pt x="14759" y="15081"/>
                </a:cubicBezTo>
                <a:cubicBezTo>
                  <a:pt x="14590" y="15179"/>
                  <a:pt x="14476" y="15491"/>
                  <a:pt x="14486" y="15726"/>
                </a:cubicBezTo>
                <a:cubicBezTo>
                  <a:pt x="14498" y="16003"/>
                  <a:pt x="14700" y="16097"/>
                  <a:pt x="14932" y="15999"/>
                </a:cubicBezTo>
                <a:cubicBezTo>
                  <a:pt x="15138" y="15912"/>
                  <a:pt x="15239" y="15790"/>
                  <a:pt x="15255" y="15577"/>
                </a:cubicBezTo>
                <a:cubicBezTo>
                  <a:pt x="15151" y="15676"/>
                  <a:pt x="14955" y="15804"/>
                  <a:pt x="15056" y="15999"/>
                </a:cubicBezTo>
                <a:cubicBezTo>
                  <a:pt x="15166" y="16211"/>
                  <a:pt x="15506" y="15895"/>
                  <a:pt x="15577" y="15825"/>
                </a:cubicBezTo>
                <a:cubicBezTo>
                  <a:pt x="15602" y="15792"/>
                  <a:pt x="15627" y="15759"/>
                  <a:pt x="15652" y="15726"/>
                </a:cubicBezTo>
                <a:cubicBezTo>
                  <a:pt x="15619" y="15799"/>
                  <a:pt x="15592" y="15821"/>
                  <a:pt x="15577" y="15900"/>
                </a:cubicBezTo>
                <a:cubicBezTo>
                  <a:pt x="15577" y="15933"/>
                  <a:pt x="15577" y="15966"/>
                  <a:pt x="15577" y="15999"/>
                </a:cubicBezTo>
                <a:cubicBezTo>
                  <a:pt x="15601" y="15870"/>
                  <a:pt x="15630" y="15755"/>
                  <a:pt x="15726" y="15652"/>
                </a:cubicBezTo>
                <a:cubicBezTo>
                  <a:pt x="15751" y="15635"/>
                  <a:pt x="15776" y="15619"/>
                  <a:pt x="15801" y="15602"/>
                </a:cubicBezTo>
                <a:cubicBezTo>
                  <a:pt x="15836" y="15696"/>
                  <a:pt x="15835" y="15805"/>
                  <a:pt x="15875" y="15900"/>
                </a:cubicBezTo>
                <a:cubicBezTo>
                  <a:pt x="15962" y="16106"/>
                  <a:pt x="16284" y="15936"/>
                  <a:pt x="16396" y="15850"/>
                </a:cubicBezTo>
                <a:cubicBezTo>
                  <a:pt x="16544" y="15737"/>
                  <a:pt x="16527" y="15615"/>
                  <a:pt x="16520" y="15478"/>
                </a:cubicBezTo>
                <a:cubicBezTo>
                  <a:pt x="16443" y="15544"/>
                  <a:pt x="16155" y="15795"/>
                  <a:pt x="16371" y="15900"/>
                </a:cubicBezTo>
                <a:cubicBezTo>
                  <a:pt x="16525" y="15975"/>
                  <a:pt x="16638" y="15887"/>
                  <a:pt x="16768" y="1582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6018120"/>
            <a:ext cx="1670400" cy="81000"/>
          </a:xfrm>
          <a:custGeom>
            <a:avLst/>
            <a:gdLst/>
            <a:ahLst/>
            <a:rect l="l" t="t" r="r" b="b"/>
            <a:pathLst>
              <a:path w="4640" h="225">
                <a:moveTo>
                  <a:pt x="7938" y="16718"/>
                </a:moveTo>
                <a:lnTo>
                  <a:pt x="7938" y="16718"/>
                </a:lnTo>
                <a:lnTo>
                  <a:pt x="7938" y="16718"/>
                </a:lnTo>
              </a:path>
              <a:path w="4640" h="225">
                <a:moveTo>
                  <a:pt x="5953" y="16793"/>
                </a:moveTo>
                <a:cubicBezTo>
                  <a:pt x="5945" y="16793"/>
                  <a:pt x="5936" y="16793"/>
                  <a:pt x="5928" y="16793"/>
                </a:cubicBezTo>
              </a:path>
              <a:path w="4640" h="225">
                <a:moveTo>
                  <a:pt x="3299" y="16917"/>
                </a:moveTo>
                <a:cubicBezTo>
                  <a:pt x="3324" y="16917"/>
                  <a:pt x="3332" y="16917"/>
                  <a:pt x="3324" y="169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6960" y="3116160"/>
            <a:ext cx="1214280" cy="554040"/>
          </a:xfrm>
          <a:custGeom>
            <a:avLst/>
            <a:gdLst/>
            <a:ahLst/>
            <a:rect l="l" t="t" r="r" b="b"/>
            <a:pathLst>
              <a:path w="3374" h="1539">
                <a:moveTo>
                  <a:pt x="8880" y="10145"/>
                </a:moveTo>
                <a:cubicBezTo>
                  <a:pt x="9318" y="10183"/>
                  <a:pt x="9751" y="10219"/>
                  <a:pt x="10195" y="10195"/>
                </a:cubicBezTo>
                <a:cubicBezTo>
                  <a:pt x="10907" y="10156"/>
                  <a:pt x="11300" y="9998"/>
                  <a:pt x="11807" y="9525"/>
                </a:cubicBezTo>
                <a:cubicBezTo>
                  <a:pt x="11549" y="8901"/>
                  <a:pt x="11095" y="8764"/>
                  <a:pt x="10393" y="8682"/>
                </a:cubicBezTo>
                <a:cubicBezTo>
                  <a:pt x="9649" y="8595"/>
                  <a:pt x="8889" y="8715"/>
                  <a:pt x="8508" y="9426"/>
                </a:cubicBezTo>
                <a:cubicBezTo>
                  <a:pt x="8117" y="10154"/>
                  <a:pt x="9433" y="10017"/>
                  <a:pt x="9773" y="100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03240" y="3133800"/>
            <a:ext cx="1268640" cy="536400"/>
          </a:xfrm>
          <a:custGeom>
            <a:avLst/>
            <a:gdLst/>
            <a:ahLst/>
            <a:rect l="l" t="t" r="r" b="b"/>
            <a:pathLst>
              <a:path w="3523" h="1490">
                <a:moveTo>
                  <a:pt x="6375" y="10195"/>
                </a:moveTo>
                <a:cubicBezTo>
                  <a:pt x="6734" y="10159"/>
                  <a:pt x="7116" y="10140"/>
                  <a:pt x="7466" y="10046"/>
                </a:cubicBezTo>
                <a:cubicBezTo>
                  <a:pt x="7967" y="9912"/>
                  <a:pt x="8359" y="9778"/>
                  <a:pt x="8533" y="9302"/>
                </a:cubicBezTo>
                <a:cubicBezTo>
                  <a:pt x="8040" y="8867"/>
                  <a:pt x="7534" y="8694"/>
                  <a:pt x="6846" y="8706"/>
                </a:cubicBezTo>
                <a:cubicBezTo>
                  <a:pt x="6040" y="8720"/>
                  <a:pt x="5491" y="8980"/>
                  <a:pt x="5011" y="9575"/>
                </a:cubicBezTo>
                <a:cubicBezTo>
                  <a:pt x="5498" y="10064"/>
                  <a:pt x="5889" y="9950"/>
                  <a:pt x="6573" y="98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2000" y="3160800"/>
            <a:ext cx="992160" cy="598320"/>
          </a:xfrm>
          <a:custGeom>
            <a:avLst/>
            <a:gdLst/>
            <a:ahLst/>
            <a:rect l="l" t="t" r="r" b="b"/>
            <a:pathLst>
              <a:path w="2754" h="1663">
                <a:moveTo>
                  <a:pt x="3373" y="10269"/>
                </a:moveTo>
                <a:cubicBezTo>
                  <a:pt x="4003" y="10237"/>
                  <a:pt x="4622" y="10152"/>
                  <a:pt x="5209" y="9897"/>
                </a:cubicBezTo>
                <a:cubicBezTo>
                  <a:pt x="5673" y="9696"/>
                  <a:pt x="5655" y="9578"/>
                  <a:pt x="5655" y="9153"/>
                </a:cubicBezTo>
                <a:cubicBezTo>
                  <a:pt x="4987" y="8719"/>
                  <a:pt x="4312" y="8633"/>
                  <a:pt x="3522" y="8954"/>
                </a:cubicBezTo>
                <a:cubicBezTo>
                  <a:pt x="2908" y="9203"/>
                  <a:pt x="2697" y="10021"/>
                  <a:pt x="3373" y="10344"/>
                </a:cubicBezTo>
                <a:cubicBezTo>
                  <a:pt x="3899" y="10454"/>
                  <a:pt x="4111" y="10483"/>
                  <a:pt x="4490" y="1039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51120" y="4197240"/>
            <a:ext cx="1123920" cy="588960"/>
          </a:xfrm>
          <a:custGeom>
            <a:avLst/>
            <a:gdLst/>
            <a:ahLst/>
            <a:rect l="l" t="t" r="r" b="b"/>
            <a:pathLst>
              <a:path w="3126" h="1638">
                <a:moveTo>
                  <a:pt x="7938" y="12998"/>
                </a:moveTo>
                <a:cubicBezTo>
                  <a:pt x="8357" y="13170"/>
                  <a:pt x="8868" y="13265"/>
                  <a:pt x="9327" y="13295"/>
                </a:cubicBezTo>
                <a:cubicBezTo>
                  <a:pt x="9735" y="13322"/>
                  <a:pt x="10629" y="13374"/>
                  <a:pt x="10765" y="12824"/>
                </a:cubicBezTo>
                <a:cubicBezTo>
                  <a:pt x="10910" y="12238"/>
                  <a:pt x="10104" y="11842"/>
                  <a:pt x="9674" y="11733"/>
                </a:cubicBezTo>
                <a:cubicBezTo>
                  <a:pt x="9088" y="11585"/>
                  <a:pt x="7912" y="11625"/>
                  <a:pt x="7640" y="12328"/>
                </a:cubicBezTo>
                <a:cubicBezTo>
                  <a:pt x="7453" y="12810"/>
                  <a:pt x="8143" y="12891"/>
                  <a:pt x="8384" y="1297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080" y="4224240"/>
            <a:ext cx="1090800" cy="527040"/>
          </a:xfrm>
          <a:custGeom>
            <a:avLst/>
            <a:gdLst/>
            <a:ahLst/>
            <a:rect l="l" t="t" r="r" b="b"/>
            <a:pathLst>
              <a:path w="3027" h="1464">
                <a:moveTo>
                  <a:pt x="3175" y="12923"/>
                </a:moveTo>
                <a:cubicBezTo>
                  <a:pt x="3555" y="13126"/>
                  <a:pt x="3950" y="13206"/>
                  <a:pt x="4390" y="13196"/>
                </a:cubicBezTo>
                <a:cubicBezTo>
                  <a:pt x="4972" y="13182"/>
                  <a:pt x="5408" y="13082"/>
                  <a:pt x="5730" y="12626"/>
                </a:cubicBezTo>
                <a:cubicBezTo>
                  <a:pt x="5415" y="12142"/>
                  <a:pt x="4997" y="11862"/>
                  <a:pt x="4390" y="11757"/>
                </a:cubicBezTo>
                <a:cubicBezTo>
                  <a:pt x="3873" y="11668"/>
                  <a:pt x="2793" y="11750"/>
                  <a:pt x="2704" y="12452"/>
                </a:cubicBezTo>
                <a:cubicBezTo>
                  <a:pt x="2636" y="12992"/>
                  <a:pt x="3462" y="13035"/>
                  <a:pt x="3770" y="1312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49880" y="2544840"/>
            <a:ext cx="1100160" cy="447480"/>
          </a:xfrm>
          <a:custGeom>
            <a:avLst/>
            <a:gdLst/>
            <a:ahLst/>
            <a:rect l="l" t="t" r="r" b="b"/>
            <a:pathLst>
              <a:path w="3052" h="1242">
                <a:moveTo>
                  <a:pt x="14585" y="7169"/>
                </a:moveTo>
                <a:cubicBezTo>
                  <a:pt x="14779" y="7169"/>
                  <a:pt x="14963" y="7130"/>
                  <a:pt x="15156" y="7119"/>
                </a:cubicBezTo>
                <a:cubicBezTo>
                  <a:pt x="15732" y="7086"/>
                  <a:pt x="16316" y="7122"/>
                  <a:pt x="16892" y="7094"/>
                </a:cubicBezTo>
                <a:cubicBezTo>
                  <a:pt x="17100" y="7084"/>
                  <a:pt x="17304" y="7069"/>
                  <a:pt x="17512" y="7069"/>
                </a:cubicBezTo>
                <a:cubicBezTo>
                  <a:pt x="17578" y="7069"/>
                  <a:pt x="17595" y="7069"/>
                  <a:pt x="17636" y="7069"/>
                </a:cubicBezTo>
              </a:path>
              <a:path w="3052" h="1242">
                <a:moveTo>
                  <a:pt x="14883" y="7491"/>
                </a:moveTo>
                <a:cubicBezTo>
                  <a:pt x="15091" y="7435"/>
                  <a:pt x="15309" y="7389"/>
                  <a:pt x="15528" y="7367"/>
                </a:cubicBezTo>
                <a:cubicBezTo>
                  <a:pt x="15991" y="7320"/>
                  <a:pt x="16454" y="7301"/>
                  <a:pt x="16917" y="7243"/>
                </a:cubicBezTo>
                <a:cubicBezTo>
                  <a:pt x="17058" y="7225"/>
                  <a:pt x="17199" y="7203"/>
                  <a:pt x="17338" y="7193"/>
                </a:cubicBezTo>
                <a:cubicBezTo>
                  <a:pt x="17346" y="7193"/>
                  <a:pt x="17355" y="7193"/>
                  <a:pt x="17363" y="7193"/>
                </a:cubicBezTo>
              </a:path>
              <a:path w="3052" h="1242">
                <a:moveTo>
                  <a:pt x="15156" y="7764"/>
                </a:moveTo>
                <a:cubicBezTo>
                  <a:pt x="15512" y="7669"/>
                  <a:pt x="15854" y="7620"/>
                  <a:pt x="16222" y="7590"/>
                </a:cubicBezTo>
                <a:cubicBezTo>
                  <a:pt x="16479" y="7569"/>
                  <a:pt x="17195" y="7465"/>
                  <a:pt x="16942" y="7516"/>
                </a:cubicBezTo>
                <a:cubicBezTo>
                  <a:pt x="16876" y="7524"/>
                  <a:pt x="16809" y="7533"/>
                  <a:pt x="16743" y="7541"/>
                </a:cubicBezTo>
              </a:path>
              <a:path w="3052" h="1242">
                <a:moveTo>
                  <a:pt x="15304" y="7913"/>
                </a:moveTo>
                <a:cubicBezTo>
                  <a:pt x="15773" y="7844"/>
                  <a:pt x="17038" y="7414"/>
                  <a:pt x="16718" y="7764"/>
                </a:cubicBezTo>
                <a:cubicBezTo>
                  <a:pt x="16567" y="7839"/>
                  <a:pt x="16479" y="7870"/>
                  <a:pt x="16346" y="7888"/>
                </a:cubicBezTo>
              </a:path>
              <a:path w="3052" h="1242">
                <a:moveTo>
                  <a:pt x="15751" y="8235"/>
                </a:moveTo>
                <a:cubicBezTo>
                  <a:pt x="15916" y="8191"/>
                  <a:pt x="16081" y="8151"/>
                  <a:pt x="16247" y="8111"/>
                </a:cubicBezTo>
                <a:cubicBezTo>
                  <a:pt x="16170" y="8142"/>
                  <a:pt x="15782" y="8330"/>
                  <a:pt x="15875" y="8310"/>
                </a:cubicBezTo>
                <a:cubicBezTo>
                  <a:pt x="16055" y="8258"/>
                  <a:pt x="16119" y="8241"/>
                  <a:pt x="16247" y="82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72080" y="2867040"/>
            <a:ext cx="322200" cy="71280"/>
          </a:xfrm>
          <a:custGeom>
            <a:avLst/>
            <a:gdLst/>
            <a:ahLst/>
            <a:rect l="l" t="t" r="r" b="b"/>
            <a:pathLst>
              <a:path w="894" h="200">
                <a:moveTo>
                  <a:pt x="15478" y="8161"/>
                </a:moveTo>
                <a:cubicBezTo>
                  <a:pt x="15757" y="8071"/>
                  <a:pt x="16029" y="7997"/>
                  <a:pt x="16321" y="7962"/>
                </a:cubicBezTo>
                <a:cubicBezTo>
                  <a:pt x="16373" y="7962"/>
                  <a:pt x="16388" y="7963"/>
                  <a:pt x="16321" y="798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9160" y="4402080"/>
            <a:ext cx="63720" cy="189000"/>
          </a:xfrm>
          <a:custGeom>
            <a:avLst/>
            <a:gdLst/>
            <a:ahLst/>
            <a:rect l="l" t="t" r="r" b="b"/>
            <a:pathLst>
              <a:path w="175" h="522">
                <a:moveTo>
                  <a:pt x="8607" y="12229"/>
                </a:moveTo>
                <a:cubicBezTo>
                  <a:pt x="8553" y="12301"/>
                  <a:pt x="8638" y="12360"/>
                  <a:pt x="8682" y="12427"/>
                </a:cubicBezTo>
                <a:cubicBezTo>
                  <a:pt x="8757" y="12540"/>
                  <a:pt x="8757" y="12604"/>
                  <a:pt x="8731" y="12725"/>
                </a:cubicBezTo>
                <a:cubicBezTo>
                  <a:pt x="8731" y="12733"/>
                  <a:pt x="8731" y="12742"/>
                  <a:pt x="8731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46720" y="4384800"/>
            <a:ext cx="125280" cy="206280"/>
          </a:xfrm>
          <a:custGeom>
            <a:avLst/>
            <a:gdLst/>
            <a:ahLst/>
            <a:rect l="l" t="t" r="r" b="b"/>
            <a:pathLst>
              <a:path w="348" h="572">
                <a:moveTo>
                  <a:pt x="12650" y="12204"/>
                </a:moveTo>
                <a:cubicBezTo>
                  <a:pt x="12679" y="12204"/>
                  <a:pt x="12730" y="12186"/>
                  <a:pt x="12700" y="12204"/>
                </a:cubicBezTo>
                <a:cubicBezTo>
                  <a:pt x="12590" y="12271"/>
                  <a:pt x="12457" y="12350"/>
                  <a:pt x="12402" y="12477"/>
                </a:cubicBezTo>
                <a:cubicBezTo>
                  <a:pt x="12372" y="12547"/>
                  <a:pt x="12353" y="12625"/>
                  <a:pt x="12353" y="12700"/>
                </a:cubicBezTo>
                <a:cubicBezTo>
                  <a:pt x="12353" y="12725"/>
                  <a:pt x="12353" y="12733"/>
                  <a:pt x="12353" y="127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10040" y="3251160"/>
            <a:ext cx="241200" cy="54000"/>
          </a:xfrm>
          <a:custGeom>
            <a:avLst/>
            <a:gdLst/>
            <a:ahLst/>
            <a:rect l="l" t="t" r="r" b="b"/>
            <a:pathLst>
              <a:path w="671" h="150">
                <a:moveTo>
                  <a:pt x="11137" y="9153"/>
                </a:moveTo>
                <a:cubicBezTo>
                  <a:pt x="11211" y="9168"/>
                  <a:pt x="11279" y="9191"/>
                  <a:pt x="11361" y="9178"/>
                </a:cubicBezTo>
                <a:cubicBezTo>
                  <a:pt x="11424" y="9168"/>
                  <a:pt x="11552" y="9155"/>
                  <a:pt x="11609" y="9128"/>
                </a:cubicBezTo>
                <a:cubicBezTo>
                  <a:pt x="11646" y="9111"/>
                  <a:pt x="11703" y="9081"/>
                  <a:pt x="11733" y="9054"/>
                </a:cubicBezTo>
                <a:cubicBezTo>
                  <a:pt x="11759" y="9031"/>
                  <a:pt x="11827" y="9029"/>
                  <a:pt x="11782" y="902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280" y="336600"/>
            <a:ext cx="77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Compare and classify triangles by angle measure and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2040" y="2357280"/>
            <a:ext cx="1778040" cy="54000"/>
          </a:xfrm>
          <a:custGeom>
            <a:avLst/>
            <a:gdLst/>
            <a:ahLst/>
            <a:rect l="l" t="t" r="r" b="b"/>
            <a:pathLst>
              <a:path w="4937" h="150">
                <a:moveTo>
                  <a:pt x="14114" y="6573"/>
                </a:moveTo>
                <a:cubicBezTo>
                  <a:pt x="14165" y="6559"/>
                  <a:pt x="14160" y="6549"/>
                  <a:pt x="14213" y="6548"/>
                </a:cubicBezTo>
                <a:cubicBezTo>
                  <a:pt x="14311" y="6546"/>
                  <a:pt x="14393" y="6565"/>
                  <a:pt x="14486" y="6573"/>
                </a:cubicBezTo>
                <a:cubicBezTo>
                  <a:pt x="14806" y="6602"/>
                  <a:pt x="15136" y="6570"/>
                  <a:pt x="15453" y="6598"/>
                </a:cubicBezTo>
                <a:cubicBezTo>
                  <a:pt x="15636" y="6614"/>
                  <a:pt x="15815" y="6661"/>
                  <a:pt x="15999" y="6672"/>
                </a:cubicBezTo>
                <a:cubicBezTo>
                  <a:pt x="16187" y="6683"/>
                  <a:pt x="16410" y="6704"/>
                  <a:pt x="16594" y="6697"/>
                </a:cubicBezTo>
                <a:cubicBezTo>
                  <a:pt x="16809" y="6689"/>
                  <a:pt x="17021" y="6676"/>
                  <a:pt x="17239" y="6672"/>
                </a:cubicBezTo>
                <a:cubicBezTo>
                  <a:pt x="17464" y="6668"/>
                  <a:pt x="17685" y="6651"/>
                  <a:pt x="17909" y="6648"/>
                </a:cubicBezTo>
                <a:cubicBezTo>
                  <a:pt x="18142" y="6644"/>
                  <a:pt x="18370" y="6623"/>
                  <a:pt x="18604" y="6623"/>
                </a:cubicBezTo>
                <a:cubicBezTo>
                  <a:pt x="18744" y="6623"/>
                  <a:pt x="18885" y="6623"/>
                  <a:pt x="19025" y="662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87760" y="3170160"/>
            <a:ext cx="268200" cy="160560"/>
          </a:xfrm>
          <a:custGeom>
            <a:avLst/>
            <a:gdLst/>
            <a:ahLst/>
            <a:rect l="l" t="t" r="r" b="b"/>
            <a:pathLst>
              <a:path w="745" h="447">
                <a:moveTo>
                  <a:pt x="7466" y="9252"/>
                </a:moveTo>
                <a:cubicBezTo>
                  <a:pt x="7573" y="9205"/>
                  <a:pt x="7685" y="9185"/>
                  <a:pt x="7789" y="9128"/>
                </a:cubicBezTo>
                <a:cubicBezTo>
                  <a:pt x="7867" y="9085"/>
                  <a:pt x="7938" y="9024"/>
                  <a:pt x="8012" y="8979"/>
                </a:cubicBezTo>
                <a:cubicBezTo>
                  <a:pt x="8064" y="8948"/>
                  <a:pt x="8069" y="8942"/>
                  <a:pt x="8111" y="8905"/>
                </a:cubicBezTo>
                <a:cubicBezTo>
                  <a:pt x="8133" y="8885"/>
                  <a:pt x="8174" y="8814"/>
                  <a:pt x="8186" y="8806"/>
                </a:cubicBezTo>
                <a:cubicBezTo>
                  <a:pt x="8194" y="8806"/>
                  <a:pt x="8202" y="8806"/>
                  <a:pt x="8210" y="880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69040" y="4626000"/>
            <a:ext cx="125280" cy="231840"/>
          </a:xfrm>
          <a:custGeom>
            <a:avLst/>
            <a:gdLst/>
            <a:ahLst/>
            <a:rect l="l" t="t" r="r" b="b"/>
            <a:pathLst>
              <a:path w="348" h="646">
                <a:moveTo>
                  <a:pt x="17438" y="13494"/>
                </a:moveTo>
                <a:cubicBezTo>
                  <a:pt x="17438" y="13431"/>
                  <a:pt x="17416" y="13386"/>
                  <a:pt x="17413" y="13320"/>
                </a:cubicBezTo>
                <a:cubicBezTo>
                  <a:pt x="17410" y="13264"/>
                  <a:pt x="17432" y="13171"/>
                  <a:pt x="17462" y="13122"/>
                </a:cubicBezTo>
                <a:cubicBezTo>
                  <a:pt x="17488" y="13079"/>
                  <a:pt x="17530" y="13033"/>
                  <a:pt x="17562" y="12998"/>
                </a:cubicBezTo>
                <a:cubicBezTo>
                  <a:pt x="17596" y="12960"/>
                  <a:pt x="17649" y="12924"/>
                  <a:pt x="17686" y="12898"/>
                </a:cubicBezTo>
                <a:cubicBezTo>
                  <a:pt x="17733" y="12866"/>
                  <a:pt x="17746" y="12847"/>
                  <a:pt x="17760" y="1287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demcgra</cp:lastModifiedBy>
  <dcterms:modified xsi:type="dcterms:W3CDTF">2012-01-30T20:06:21Z</dcterms:modified>
  <cp:revision>10</cp:revision>
  <dc:subject/>
  <dc:title>Unit 6: Geometry</dc:title>
</cp:coreProperties>
</file>